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2440" indent="-26244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48720" indent="-27864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75636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86364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9712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9712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971280">
              <a:lnSpc>
                <a:spcPct val="12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54.xml"/><Relationship Id="rId10" Type="http://schemas.openxmlformats.org/officeDocument/2006/relationships/slide" Target="slide54.xml"/><Relationship Id="rId11" Type="http://schemas.openxmlformats.org/officeDocument/2006/relationships/slide" Target="slide77.xml"/><Relationship Id="rId12" Type="http://schemas.openxmlformats.org/officeDocument/2006/relationships/slide" Target="slide77.xml"/><Relationship Id="rId13" Type="http://schemas.openxmlformats.org/officeDocument/2006/relationships/slide" Target="slide94.xml"/><Relationship Id="rId14" Type="http://schemas.openxmlformats.org/officeDocument/2006/relationships/slide" Target="slide94.xml"/><Relationship Id="rId15" Type="http://schemas.openxmlformats.org/officeDocument/2006/relationships/slide" Target="slide94.xml"/><Relationship Id="rId16" Type="http://schemas.openxmlformats.org/officeDocument/2006/relationships/slide" Target="slide103.xml"/><Relationship Id="rId17" Type="http://schemas.openxmlformats.org/officeDocument/2006/relationships/slide" Target="slide103.xml"/><Relationship Id="rId18" Type="http://schemas.openxmlformats.org/officeDocument/2006/relationships/slide" Target="slide103.xml"/><Relationship Id="rId1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4.xml"/><Relationship Id="rId8" Type="http://schemas.openxmlformats.org/officeDocument/2006/relationships/slide" Target="slide34.xml"/><Relationship Id="rId9" Type="http://schemas.openxmlformats.org/officeDocument/2006/relationships/slide" Target="slide35.xml"/><Relationship Id="rId10" Type="http://schemas.openxmlformats.org/officeDocument/2006/relationships/slide" Target="slide35.xml"/><Relationship Id="rId11" Type="http://schemas.openxmlformats.org/officeDocument/2006/relationships/slide" Target="slide37.xml"/><Relationship Id="rId12" Type="http://schemas.openxmlformats.org/officeDocument/2006/relationships/slide" Target="slide37.xml"/><Relationship Id="rId13" Type="http://schemas.openxmlformats.org/officeDocument/2006/relationships/slide" Target="slide39.xml"/><Relationship Id="rId14" Type="http://schemas.openxmlformats.org/officeDocument/2006/relationships/slide" Target="slide39.xml"/><Relationship Id="rId15" Type="http://schemas.openxmlformats.org/officeDocument/2006/relationships/slide" Target="slide49.xml"/><Relationship Id="rId16" Type="http://schemas.openxmlformats.org/officeDocument/2006/relationships/slide" Target="slide49.xml"/><Relationship Id="rId17" Type="http://schemas.openxmlformats.org/officeDocument/2006/relationships/slide" Target="slide52.xml"/><Relationship Id="rId18" Type="http://schemas.openxmlformats.org/officeDocument/2006/relationships/slide" Target="slide52.xml"/><Relationship Id="rId19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slide" Target="slide56.xml"/><Relationship Id="rId4" Type="http://schemas.openxmlformats.org/officeDocument/2006/relationships/slide" Target="slide56.xml"/><Relationship Id="rId5" Type="http://schemas.openxmlformats.org/officeDocument/2006/relationships/slide" Target="slide57.xml"/><Relationship Id="rId6" Type="http://schemas.openxmlformats.org/officeDocument/2006/relationships/slide" Target="slide57.xml"/><Relationship Id="rId7" Type="http://schemas.openxmlformats.org/officeDocument/2006/relationships/slide" Target="slide59.xml"/><Relationship Id="rId8" Type="http://schemas.openxmlformats.org/officeDocument/2006/relationships/slide" Target="slide59.xml"/><Relationship Id="rId9" Type="http://schemas.openxmlformats.org/officeDocument/2006/relationships/slide" Target="slide63.xml"/><Relationship Id="rId10" Type="http://schemas.openxmlformats.org/officeDocument/2006/relationships/slide" Target="slide63.xml"/><Relationship Id="rId11" Type="http://schemas.openxmlformats.org/officeDocument/2006/relationships/slide" Target="slide64.xml"/><Relationship Id="rId12" Type="http://schemas.openxmlformats.org/officeDocument/2006/relationships/slide" Target="slide64.xml"/><Relationship Id="rId13" Type="http://schemas.openxmlformats.org/officeDocument/2006/relationships/slide" Target="slide70.xml"/><Relationship Id="rId14" Type="http://schemas.openxmlformats.org/officeDocument/2006/relationships/slide" Target="slide70.xml"/><Relationship Id="rId15" Type="http://schemas.openxmlformats.org/officeDocument/2006/relationships/slide" Target="slide74.xml"/><Relationship Id="rId16" Type="http://schemas.openxmlformats.org/officeDocument/2006/relationships/slide" Target="slide74.xml"/><Relationship Id="rId17" Type="http://schemas.openxmlformats.org/officeDocument/2006/relationships/slide" Target="slide76.xml"/><Relationship Id="rId18" Type="http://schemas.openxmlformats.org/officeDocument/2006/relationships/slide" Target="slide76.xml"/><Relationship Id="rId19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图形界面设计与项目管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57040" y="106632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本章要点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" action="ppaction://hlinksldjump"/>
              </a:rPr>
              <a:t>3.1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菜单的设计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3" action="ppaction://hlinksldjump"/>
              </a:rPr>
              <a:t>3.2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4" action="ppaction://hlinksldjump"/>
              </a:rPr>
              <a:t>工具栏的设计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5" action="ppaction://hlinksldjump"/>
              </a:rPr>
              <a:t>3.3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6" action="ppaction://hlinksldjump"/>
              </a:rPr>
              <a:t>状态栏的设计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7" action="ppaction://hlinksldjump"/>
              </a:rPr>
              <a:t>3.4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8" action="ppaction://hlinksldjump"/>
              </a:rPr>
              <a:t>按钮及面板的设计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9" action="ppaction://hlinksldjump"/>
              </a:rPr>
              <a:t>3.5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文本对象的设计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1" action="ppaction://hlinksldjump"/>
              </a:rPr>
              <a:t>3.6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2" action="ppaction://hlinksldjump"/>
              </a:rPr>
              <a:t>有关窗体的操作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3" action="ppaction://hlinksldjump"/>
              </a:rPr>
              <a:t>3.7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Black"/>
                <a:ea typeface="宋体"/>
                <a:hlinkClick r:id="rId14" action="ppaction://hlinksldjump"/>
              </a:rPr>
              <a:t>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5" action="ppaction://hlinksldjump"/>
              </a:rPr>
              <a:t>有关代码编辑器的使用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6" action="ppaction://hlinksldjump"/>
              </a:rPr>
              <a:t>3.8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Black"/>
                <a:ea typeface="宋体"/>
                <a:hlinkClick r:id="rId17" action="ppaction://hlinksldjump"/>
              </a:rPr>
              <a:t>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8" action="ppaction://hlinksldjump"/>
              </a:rPr>
              <a:t>项目管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50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图3－5" descr=""/>
          <p:cNvPicPr/>
          <p:nvPr/>
        </p:nvPicPr>
        <p:blipFill>
          <a:blip r:embed="rId1"/>
          <a:srcRect l="0" t="0" r="0" b="29502"/>
          <a:stretch/>
        </p:blipFill>
        <p:spPr>
          <a:xfrm>
            <a:off x="914400" y="1676520"/>
            <a:ext cx="7201080" cy="3141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中的“文件”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316224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9" name="图3－7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295960" cy="363060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1676520" y="5334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语句模板完成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1194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图3－8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715000" cy="363384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1371600" y="5410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代码完成功能选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31384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图3－9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319720" cy="337500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1828800" y="5105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参数提示实例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8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管理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2462040" y="1926720"/>
            <a:ext cx="522000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8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的概念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8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文件的打开和保存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8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文件的编译和运行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8.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管理器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0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8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的概念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项目文件：描述了整个应用程序的结构和启动代码，包含本项目使用的所有窗体和单元的引用（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窗体文件：每一个窗体都有相应的窗体文件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F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保存着窗体和窗体内各个控件的属性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元文件：用来保存窗体事件的处理过程或单独的源代码，是应用源代码的主要部分。分为两种：有窗体的单元文件和无窗体的单元文件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99556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4" name="图3－1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14920" cy="388476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1905120" y="54864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文件的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327168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图3－2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033880" cy="429732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2362320" y="5562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6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体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8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文件的打开和保存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050480" y="2000160"/>
            <a:ext cx="719460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要打开一个你以前曾用过的项目，选择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i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的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pen 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出现标准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打开文件窗口，从中选择一个项目即可。要保存当前项目，选择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i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a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8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文件的编译和运行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743200" y="2071800"/>
            <a:ext cx="395136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编译链接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重建项目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只编译文件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5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8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管理器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7" name="图3－3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05360" cy="337032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289548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7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项目管理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1291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图3－6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634000" cy="3589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54864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插入菜单项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18ffd"/>
                </a:solidFill>
                <a:latin typeface="Arial Narrow"/>
                <a:ea typeface="宋体"/>
              </a:rPr>
              <a:t>THANK YOU VERY MUCH </a:t>
            </a:r>
            <a:r>
              <a:rPr b="1" lang="en-US" sz="3900" spc="-1" strike="noStrike">
                <a:solidFill>
                  <a:srgbClr val="618ffd"/>
                </a:solidFill>
                <a:latin typeface="Arial Narrow"/>
                <a:ea typeface="宋体"/>
              </a:rPr>
              <a:t>！</a:t>
            </a:r>
            <a:endParaRPr b="1" lang="en-US" sz="3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474560" y="2092320"/>
            <a:ext cx="6492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ctr">
              <a:lnSpc>
                <a:spcPct val="160000"/>
              </a:lnSpc>
              <a:spcBef>
                <a:spcPts val="36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Narrow"/>
                <a:ea typeface="宋体"/>
              </a:rPr>
              <a:t>本章到此结束，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ctr">
              <a:lnSpc>
                <a:spcPct val="160000"/>
              </a:lnSpc>
              <a:spcBef>
                <a:spcPts val="36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Narrow"/>
                <a:ea typeface="宋体"/>
              </a:rPr>
              <a:t>谢谢您的光临！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2" name="">
            <a:hlinkClick r:id="" action="ppaction://hlinkshowjump?jump=endshow"/>
          </p:cNvPr>
          <p:cNvSpPr/>
          <p:nvPr/>
        </p:nvSpPr>
        <p:spPr>
          <a:xfrm>
            <a:off x="5257800" y="6382800"/>
            <a:ext cx="145080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6700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图3－7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877000" cy="3732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33720" y="5486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了分隔条的“文件”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767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图片3－5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629400" cy="2948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666880" y="525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6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”菜单示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0032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图片3－6i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043320" cy="2425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54864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速键设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7004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3－36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24600" cy="281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2320" y="5181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设计器的弹出式菜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5284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图片3－7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914640" cy="3749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90920" y="53341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模板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81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3－8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230280" cy="357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6520" y="5486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模板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1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弹出型菜单设计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43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象后转换到属性页，并单击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opupMen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边的空白框，选中设计完的弹出型菜单名称，最后运行程序即可如图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8" name="图3－10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4800600" cy="176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47920" y="5334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激活的弹出式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工具栏的设计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94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启动新窗口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添加按钮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按钮提供位图（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13~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各个按钮添加提示信息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分别为有关工具按钮添加有关事件代码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要点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50480" y="1600200"/>
            <a:ext cx="71946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详细介绍了菜单栏、工具栏和状态栏的属性及其设计方法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了按钮、位图按钮控件的属性以及如何激活动作，发出命令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介绍了容器型控件如面板、框架、状态面板、酷工具栏的使用方法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91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图3－11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710320" cy="3562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5410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具栏设计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3836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3－12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095800" cy="3340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66880" y="5486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图像窗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4812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图3－13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655720" cy="348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86000" y="5410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mag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526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3－15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291360" cy="2125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14600" y="4876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完图标的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栏的设计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in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中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atusB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栏控件见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16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双击状态栏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ane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性，并从中选择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anels Edi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即可，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窗口中的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，就会增加一个子面板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对象监视器中设置子面板的属性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关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diting StatusBar1.Pane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576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图3－17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230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4320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状态栏的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148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图3－16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2581200" cy="3333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05120" y="51814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7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diting StatusBar1.Pane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及面板的设计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27640" cy="33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65320" indent="-26532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" action="ppaction://hlinksldjump"/>
              </a:rPr>
              <a:t>3.4.1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基本命令按钮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3" action="ppaction://hlinksldjump"/>
              </a:rPr>
              <a:t>3.4.2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4" action="ppaction://hlinksldjump"/>
              </a:rPr>
              <a:t>位图命令按钮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5" action="ppaction://hlinksldjump"/>
              </a:rPr>
              <a:t>3.4.3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6" action="ppaction://hlinksldjump"/>
              </a:rPr>
              <a:t>单选按钮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7" action="ppaction://hlinksldjump"/>
              </a:rPr>
              <a:t>3.4.4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8" action="ppaction://hlinksldjump"/>
              </a:rPr>
              <a:t>分组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9" action="ppaction://hlinksldjump"/>
              </a:rPr>
              <a:t>3.4.5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单选按钮组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160" y="1854360"/>
            <a:ext cx="352728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4160" indent="-2541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1" action="ppaction://hlinksldjump"/>
              </a:rPr>
              <a:t>3.4.6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2" action="ppaction://hlinksldjump"/>
              </a:rPr>
              <a:t>面板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4160" indent="-2541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3" action="ppaction://hlinksldjump"/>
              </a:rPr>
              <a:t>3.4.7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4" action="ppaction://hlinksldjump"/>
              </a:rPr>
              <a:t>框架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4160" indent="-2541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5" action="ppaction://hlinksldjump"/>
              </a:rPr>
              <a:t>3.4.8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6" action="ppaction://hlinksldjump"/>
              </a:rPr>
              <a:t>状态面板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4160" indent="-2541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7" action="ppaction://hlinksldjump"/>
              </a:rPr>
              <a:t>3.4.9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8" action="ppaction://hlinksldjump"/>
              </a:rPr>
              <a:t>酷工具栏控件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4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命令按钮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0880" y="1447920"/>
            <a:ext cx="8534160" cy="4723920"/>
            <a:chOff x="380880" y="1447920"/>
            <a:chExt cx="8534160" cy="4723920"/>
          </a:xfrm>
        </p:grpSpPr>
        <p:grpSp>
          <p:nvGrpSpPr>
            <p:cNvPr id="123" name=""/>
            <p:cNvGrpSpPr/>
            <p:nvPr/>
          </p:nvGrpSpPr>
          <p:grpSpPr>
            <a:xfrm>
              <a:off x="388080" y="1452600"/>
              <a:ext cx="8517960" cy="4713480"/>
              <a:chOff x="388080" y="1452600"/>
              <a:chExt cx="8517960" cy="47134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388080" y="1452600"/>
                <a:ext cx="1512720" cy="631440"/>
                <a:chOff x="388080" y="1452600"/>
                <a:chExt cx="1512720" cy="6314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97520" y="1452600"/>
                  <a:ext cx="129384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8080" y="1452600"/>
                  <a:ext cx="151272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901160" y="1452600"/>
                <a:ext cx="1327320" cy="631440"/>
                <a:chOff x="1901160" y="1452600"/>
                <a:chExt cx="1327320" cy="631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010600" y="1452600"/>
                  <a:ext cx="110772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数据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01160" y="1452600"/>
                  <a:ext cx="132732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29200" y="1452600"/>
                <a:ext cx="5676840" cy="631440"/>
                <a:chOff x="3229200" y="1452600"/>
                <a:chExt cx="5676840" cy="6314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38280" y="1452600"/>
                  <a:ext cx="545796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29200" y="1452600"/>
                  <a:ext cx="567684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88080" y="2084400"/>
                <a:ext cx="1512720" cy="631440"/>
                <a:chOff x="388080" y="2084400"/>
                <a:chExt cx="1512720" cy="631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97520" y="2084400"/>
                  <a:ext cx="129384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a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88080" y="2084400"/>
                  <a:ext cx="151272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901160" y="2084400"/>
                <a:ext cx="1327320" cy="631440"/>
                <a:chOff x="1901160" y="2084400"/>
                <a:chExt cx="1327320" cy="631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010600" y="2084400"/>
                  <a:ext cx="110772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r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01160" y="2084400"/>
                  <a:ext cx="132732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229200" y="2084400"/>
                <a:ext cx="5676840" cy="631440"/>
                <a:chOff x="3229200" y="2084400"/>
                <a:chExt cx="5676840" cy="631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338280" y="2084400"/>
                  <a:ext cx="545796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按钮的名称，编写程序代码时使用它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229200" y="2084400"/>
                  <a:ext cx="567684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88080" y="2716200"/>
                <a:ext cx="1512720" cy="631800"/>
                <a:chOff x="388080" y="2716200"/>
                <a:chExt cx="1512720" cy="6318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97520" y="2716200"/>
                  <a:ext cx="1293840" cy="63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p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88080" y="2716200"/>
                  <a:ext cx="1512720" cy="63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901160" y="2716200"/>
                <a:ext cx="1327320" cy="631800"/>
                <a:chOff x="1901160" y="2716200"/>
                <a:chExt cx="1327320" cy="6318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010600" y="2716200"/>
                  <a:ext cx="1107720" cy="63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r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01160" y="2716200"/>
                  <a:ext cx="1327320" cy="63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229200" y="2716200"/>
                <a:ext cx="5676840" cy="631800"/>
                <a:chOff x="3229200" y="2716200"/>
                <a:chExt cx="5676840" cy="6318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338280" y="2716200"/>
                  <a:ext cx="5457960" cy="63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按钮的标题，就是按钮上显示的文字。可以为按钮指定快捷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29200" y="2716200"/>
                  <a:ext cx="5676840" cy="63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88080" y="3348360"/>
                <a:ext cx="1512720" cy="776520"/>
                <a:chOff x="388080" y="3348360"/>
                <a:chExt cx="1512720" cy="7765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97520" y="3348360"/>
                  <a:ext cx="129384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nc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88080" y="3348360"/>
                  <a:ext cx="1512720" cy="77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01160" y="3348360"/>
                <a:ext cx="1327320" cy="776520"/>
                <a:chOff x="1901160" y="3348360"/>
                <a:chExt cx="1327320" cy="776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10600" y="3348360"/>
                  <a:ext cx="110772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01160" y="3348360"/>
                  <a:ext cx="1327320" cy="77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229200" y="3348360"/>
                <a:ext cx="5676840" cy="776520"/>
                <a:chOff x="3229200" y="3348360"/>
                <a:chExt cx="5676840" cy="776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338280" y="3348360"/>
                  <a:ext cx="545796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缺省值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当取值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时，无论何时按下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s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键，按钮中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aborder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值最小的按钮会产生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nclick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事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229200" y="3348360"/>
                  <a:ext cx="5676840" cy="77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88080" y="4125600"/>
                <a:ext cx="1512720" cy="776880"/>
                <a:chOff x="388080" y="4125600"/>
                <a:chExt cx="1512720" cy="7768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97520" y="4125600"/>
                  <a:ext cx="1293840" cy="77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efaul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88080" y="4125600"/>
                  <a:ext cx="1512720" cy="77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901160" y="4125600"/>
                <a:ext cx="1327320" cy="776880"/>
                <a:chOff x="1901160" y="4125600"/>
                <a:chExt cx="1327320" cy="776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010600" y="4125600"/>
                  <a:ext cx="1107720" cy="77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901160" y="4125600"/>
                  <a:ext cx="1327320" cy="77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229200" y="4125600"/>
                <a:ext cx="5676840" cy="776880"/>
                <a:chOff x="3229200" y="4125600"/>
                <a:chExt cx="5676840" cy="7768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338280" y="4125600"/>
                  <a:ext cx="5457960" cy="77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当属性值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时，按下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nter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键，当前按钮产生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nclick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事件，缺省值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229200" y="4125600"/>
                  <a:ext cx="5676840" cy="77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88080" y="4902840"/>
                <a:ext cx="1512720" cy="631440"/>
                <a:chOff x="388080" y="4902840"/>
                <a:chExt cx="1512720" cy="631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7520" y="4902840"/>
                  <a:ext cx="129384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i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88080" y="4902840"/>
                  <a:ext cx="151272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901160" y="4902840"/>
                <a:ext cx="1327320" cy="631440"/>
                <a:chOff x="1901160" y="4902840"/>
                <a:chExt cx="1327320" cy="631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010600" y="4902840"/>
                  <a:ext cx="110772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r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901160" y="4902840"/>
                  <a:ext cx="132732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229200" y="4902840"/>
                <a:ext cx="5676840" cy="631440"/>
                <a:chOff x="3229200" y="4902840"/>
                <a:chExt cx="5676840" cy="631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338280" y="4902840"/>
                  <a:ext cx="545796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按钮的提示文本保存在这里，当鼠标光标停留时，显示提示文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29200" y="4902840"/>
                  <a:ext cx="567684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88080" y="5534640"/>
                <a:ext cx="1512720" cy="631440"/>
                <a:chOff x="388080" y="5534640"/>
                <a:chExt cx="1512720" cy="631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97520" y="5534640"/>
                  <a:ext cx="129384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howhi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88080" y="5534640"/>
                  <a:ext cx="151272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901160" y="5534640"/>
                <a:ext cx="1327320" cy="631440"/>
                <a:chOff x="1901160" y="5534640"/>
                <a:chExt cx="1327320" cy="631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010600" y="5534640"/>
                  <a:ext cx="110772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901160" y="5534640"/>
                  <a:ext cx="132732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229200" y="5534640"/>
                <a:ext cx="5676840" cy="631440"/>
                <a:chOff x="3229200" y="5534640"/>
                <a:chExt cx="5676840" cy="6314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338280" y="5534640"/>
                  <a:ext cx="545796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确定是否显示提示文本，缺省值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229200" y="5534640"/>
                  <a:ext cx="5676840" cy="63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380880" y="1447920"/>
              <a:ext cx="8534160" cy="4723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082680" y="9144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按钮的主要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4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位图命令按钮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1600200"/>
            <a:ext cx="8915040" cy="4495320"/>
            <a:chOff x="76320" y="1600200"/>
            <a:chExt cx="8915040" cy="4495320"/>
          </a:xfrm>
        </p:grpSpPr>
        <p:grpSp>
          <p:nvGrpSpPr>
            <p:cNvPr id="192" name=""/>
            <p:cNvGrpSpPr/>
            <p:nvPr/>
          </p:nvGrpSpPr>
          <p:grpSpPr>
            <a:xfrm>
              <a:off x="83520" y="1608120"/>
              <a:ext cx="8898840" cy="4477680"/>
              <a:chOff x="83520" y="1608120"/>
              <a:chExt cx="8898840" cy="447768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83520" y="1608120"/>
                <a:ext cx="1593000" cy="1040760"/>
                <a:chOff x="83520" y="1608120"/>
                <a:chExt cx="1593000" cy="10407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93320" y="1608120"/>
                  <a:ext cx="13730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3520" y="1608120"/>
                  <a:ext cx="159300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676880" y="1608120"/>
                <a:ext cx="1682280" cy="1040760"/>
                <a:chOff x="1676880" y="1608120"/>
                <a:chExt cx="1682280" cy="10407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785960" y="1608120"/>
                  <a:ext cx="146268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数据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676880" y="1608120"/>
                  <a:ext cx="168228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359880" y="1608120"/>
                <a:ext cx="5622480" cy="1040760"/>
                <a:chOff x="3359880" y="1608120"/>
                <a:chExt cx="5622480" cy="10407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469320" y="1608120"/>
                  <a:ext cx="540288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359880" y="1608120"/>
                  <a:ext cx="562248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83520" y="2649240"/>
                <a:ext cx="1593000" cy="3436560"/>
                <a:chOff x="83520" y="2649240"/>
                <a:chExt cx="1593000" cy="34365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93320" y="2649240"/>
                  <a:ext cx="1373040" cy="343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Ki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Glyp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ayout</a:t>
                  </a:r>
                  <a:br>
                    <a:rPr sz="1800"/>
                  </a:br>
                  <a:br>
                    <a:rPr sz="1800"/>
                  </a:b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argin</a:t>
                  </a:r>
                  <a:br>
                    <a:rPr sz="1800"/>
                  </a:br>
                  <a:br>
                    <a:rPr sz="1800"/>
                  </a:br>
                  <a:br>
                    <a:rPr sz="1800"/>
                  </a:b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umGlyph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pac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3520" y="2649240"/>
                  <a:ext cx="1593000" cy="343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676880" y="2649240"/>
                <a:ext cx="1682280" cy="3436560"/>
                <a:chOff x="1676880" y="2649240"/>
                <a:chExt cx="1682280" cy="3436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785960" y="2649240"/>
                  <a:ext cx="1462680" cy="343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BitBtnKi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Bitm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buttonlayout</a:t>
                  </a:r>
                  <a:br>
                    <a:rPr sz="1600"/>
                  </a:br>
                  <a:br>
                    <a:rPr sz="1800"/>
                  </a:b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br>
                    <a:rPr sz="1800"/>
                  </a:br>
                  <a:br>
                    <a:rPr sz="1800"/>
                  </a:b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NumGlyph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buttonsty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676880" y="2649240"/>
                  <a:ext cx="1682280" cy="343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359880" y="2649240"/>
                <a:ext cx="5622480" cy="3436560"/>
                <a:chOff x="3359880" y="2649240"/>
                <a:chExt cx="5622480" cy="34365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469320" y="2649240"/>
                  <a:ext cx="5402880" cy="343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确定按钮的类型，缺省值为自定义型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kcusto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指定要显示在位图按钮上的位图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决定位图按钮上图像和文字的位置，有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ef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igh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op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ttom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四个值分别表示位图位于位图按钮的左、右、上、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定图像与按钮的边界之间的距离（以像素为单位），默认值为－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表示图像和文字总是居中，设为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紧挨着按钮的边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指定位图按钮使用的位图的数目，只能为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确定位图按钮的外观显示方式，缺省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sautodetec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359880" y="2649240"/>
                  <a:ext cx="5622480" cy="343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" name=""/>
            <p:cNvSpPr/>
            <p:nvPr/>
          </p:nvSpPr>
          <p:spPr>
            <a:xfrm>
              <a:off x="76320" y="1600200"/>
              <a:ext cx="8915040" cy="4495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267080" y="990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位图按钮的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大量实例阐明了文本对象常用控件的属性、方法。并将常用的文本处理过程与函数集中讲解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一步阐明了代码编辑器的使用，包括代码编辑器的一些重要功能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释了项目的概念，以及如何使用项目管理器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43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各按钮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38080" y="1905120"/>
            <a:ext cx="7391160" cy="3995280"/>
            <a:chOff x="838080" y="1905120"/>
            <a:chExt cx="7391160" cy="3995280"/>
          </a:xfrm>
        </p:grpSpPr>
        <p:grpSp>
          <p:nvGrpSpPr>
            <p:cNvPr id="215" name=""/>
            <p:cNvGrpSpPr/>
            <p:nvPr/>
          </p:nvGrpSpPr>
          <p:grpSpPr>
            <a:xfrm>
              <a:off x="843840" y="1910160"/>
              <a:ext cx="7377840" cy="3983760"/>
              <a:chOff x="843840" y="1910160"/>
              <a:chExt cx="7377840" cy="398376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843840" y="1910160"/>
                <a:ext cx="1262880" cy="663480"/>
                <a:chOff x="843840" y="1910160"/>
                <a:chExt cx="1262880" cy="6634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930240" y="1910160"/>
                  <a:ext cx="1090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43840" y="1910160"/>
                  <a:ext cx="12628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107080" y="1910160"/>
                <a:ext cx="987480" cy="663480"/>
                <a:chOff x="2107080" y="1910160"/>
                <a:chExt cx="987480" cy="663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193480" y="1910160"/>
                  <a:ext cx="8146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tton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107080" y="1910160"/>
                  <a:ext cx="9874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095280" y="1910160"/>
                <a:ext cx="997920" cy="663480"/>
                <a:chOff x="3095280" y="1910160"/>
                <a:chExt cx="997920" cy="663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181680" y="1910160"/>
                  <a:ext cx="8247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tton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95280" y="1910160"/>
                  <a:ext cx="99792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093560" y="1910160"/>
                <a:ext cx="1110240" cy="663480"/>
                <a:chOff x="4093560" y="1910160"/>
                <a:chExt cx="1110240" cy="6634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179600" y="1910160"/>
                  <a:ext cx="9374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itBtn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093560" y="1910160"/>
                  <a:ext cx="1110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04160" y="1910160"/>
                <a:ext cx="1031760" cy="663480"/>
                <a:chOff x="5204160" y="1910160"/>
                <a:chExt cx="1031760" cy="6634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90200" y="1910160"/>
                  <a:ext cx="858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itBtin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04160" y="1910160"/>
                  <a:ext cx="103176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236640" y="1910160"/>
                <a:ext cx="957240" cy="663480"/>
                <a:chOff x="6236640" y="1910160"/>
                <a:chExt cx="957240" cy="6634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323040" y="1910160"/>
                  <a:ext cx="784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itBtn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236640" y="1910160"/>
                  <a:ext cx="957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7194240" y="1910160"/>
                <a:ext cx="1027440" cy="663480"/>
                <a:chOff x="7194240" y="1910160"/>
                <a:chExt cx="1027440" cy="663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280640" y="1910160"/>
                  <a:ext cx="8546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itBtn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194240" y="1910160"/>
                  <a:ext cx="10274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843840" y="2574000"/>
                <a:ext cx="1262880" cy="663480"/>
                <a:chOff x="843840" y="2574000"/>
                <a:chExt cx="1262880" cy="6634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930240" y="2574000"/>
                  <a:ext cx="1090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p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43840" y="2574000"/>
                  <a:ext cx="12628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107080" y="2574000"/>
                <a:ext cx="987480" cy="663480"/>
                <a:chOff x="2107080" y="2574000"/>
                <a:chExt cx="987480" cy="6634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193480" y="2574000"/>
                  <a:ext cx="8146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107080" y="2574000"/>
                  <a:ext cx="9874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095280" y="2574000"/>
                <a:ext cx="997920" cy="663480"/>
                <a:chOff x="3095280" y="2574000"/>
                <a:chExt cx="997920" cy="663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181680" y="2574000"/>
                  <a:ext cx="8247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095280" y="2574000"/>
                  <a:ext cx="99792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093560" y="2574000"/>
                <a:ext cx="1110240" cy="663480"/>
                <a:chOff x="4093560" y="2574000"/>
                <a:chExt cx="1110240" cy="6634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179600" y="2574000"/>
                  <a:ext cx="9374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对话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93560" y="2574000"/>
                  <a:ext cx="1110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204160" y="2574000"/>
                <a:ext cx="1031760" cy="663480"/>
                <a:chOff x="5204160" y="2574000"/>
                <a:chExt cx="1031760" cy="6634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290200" y="2574000"/>
                  <a:ext cx="858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amp;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lo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04160" y="2574000"/>
                  <a:ext cx="103176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236640" y="2574000"/>
                <a:ext cx="957240" cy="663480"/>
                <a:chOff x="6236640" y="2574000"/>
                <a:chExt cx="957240" cy="6634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323040" y="2574000"/>
                  <a:ext cx="784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236640" y="2574000"/>
                  <a:ext cx="957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194240" y="2574000"/>
                <a:ext cx="1027440" cy="663480"/>
                <a:chOff x="7194240" y="2574000"/>
                <a:chExt cx="1027440" cy="6634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280640" y="2574000"/>
                  <a:ext cx="8546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nc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194240" y="2574000"/>
                  <a:ext cx="10274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843840" y="3237840"/>
                <a:ext cx="1262880" cy="663840"/>
                <a:chOff x="843840" y="3237840"/>
                <a:chExt cx="1262880" cy="663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30240" y="3237840"/>
                  <a:ext cx="109008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Ki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43840" y="3237840"/>
                  <a:ext cx="1262880" cy="66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107080" y="3237840"/>
                <a:ext cx="987480" cy="663840"/>
                <a:chOff x="2107080" y="3237840"/>
                <a:chExt cx="987480" cy="6638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193480" y="3237840"/>
                  <a:ext cx="81468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3237840"/>
                  <a:ext cx="987480" cy="66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095280" y="3237840"/>
                <a:ext cx="997920" cy="663840"/>
                <a:chOff x="3095280" y="3237840"/>
                <a:chExt cx="997920" cy="6638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181680" y="3237840"/>
                  <a:ext cx="82476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95280" y="3237840"/>
                  <a:ext cx="997920" cy="66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093560" y="3237840"/>
                <a:ext cx="1110240" cy="663840"/>
                <a:chOff x="4093560" y="3237840"/>
                <a:chExt cx="1110240" cy="6638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179600" y="3237840"/>
                  <a:ext cx="93744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kCusto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093560" y="3237840"/>
                  <a:ext cx="1110240" cy="66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204160" y="3237840"/>
                <a:ext cx="1031760" cy="663840"/>
                <a:chOff x="5204160" y="3237840"/>
                <a:chExt cx="1031760" cy="6638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290200" y="3237840"/>
                  <a:ext cx="85896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kClo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04160" y="3237840"/>
                  <a:ext cx="1031760" cy="66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236640" y="3237840"/>
                <a:ext cx="957240" cy="663840"/>
                <a:chOff x="6236640" y="3237840"/>
                <a:chExt cx="957240" cy="6638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323040" y="3237840"/>
                  <a:ext cx="78408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k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236640" y="3237840"/>
                  <a:ext cx="957240" cy="66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194240" y="3237840"/>
                <a:ext cx="1027440" cy="663840"/>
                <a:chOff x="7194240" y="3237840"/>
                <a:chExt cx="1027440" cy="6638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280640" y="3237840"/>
                  <a:ext cx="854640" cy="66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kCanc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194240" y="3237840"/>
                  <a:ext cx="1027440" cy="66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843840" y="3902400"/>
                <a:ext cx="1262880" cy="663480"/>
                <a:chOff x="843840" y="3902400"/>
                <a:chExt cx="1262880" cy="6634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930240" y="3902400"/>
                  <a:ext cx="1090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nc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43840" y="3902400"/>
                  <a:ext cx="12628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107080" y="3902400"/>
                <a:ext cx="987480" cy="663480"/>
                <a:chOff x="2107080" y="3902400"/>
                <a:chExt cx="987480" cy="663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193480" y="3902400"/>
                  <a:ext cx="8146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7080" y="3902400"/>
                  <a:ext cx="9874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95280" y="3902400"/>
                <a:ext cx="997920" cy="663480"/>
                <a:chOff x="3095280" y="3902400"/>
                <a:chExt cx="997920" cy="6634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181680" y="3902400"/>
                  <a:ext cx="8247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95280" y="3902400"/>
                  <a:ext cx="99792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093560" y="3902400"/>
                <a:ext cx="1110240" cy="663480"/>
                <a:chOff x="4093560" y="3902400"/>
                <a:chExt cx="1110240" cy="6634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179600" y="3902400"/>
                  <a:ext cx="9374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093560" y="3902400"/>
                  <a:ext cx="1110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5204160" y="3902400"/>
                <a:ext cx="1031760" cy="663480"/>
                <a:chOff x="5204160" y="3902400"/>
                <a:chExt cx="1031760" cy="663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290200" y="3902400"/>
                  <a:ext cx="858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204160" y="3902400"/>
                  <a:ext cx="103176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236640" y="3902400"/>
                <a:ext cx="957240" cy="663480"/>
                <a:chOff x="6236640" y="3902400"/>
                <a:chExt cx="957240" cy="663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323040" y="3902400"/>
                  <a:ext cx="784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236640" y="3902400"/>
                  <a:ext cx="957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194240" y="3902400"/>
                <a:ext cx="1027440" cy="663480"/>
                <a:chOff x="7194240" y="3902400"/>
                <a:chExt cx="1027440" cy="663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7280640" y="3902400"/>
                  <a:ext cx="8546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194240" y="3902400"/>
                  <a:ext cx="10274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843840" y="4566240"/>
                <a:ext cx="1262880" cy="663480"/>
                <a:chOff x="843840" y="4566240"/>
                <a:chExt cx="1262880" cy="663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30240" y="4566240"/>
                  <a:ext cx="1090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efaul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43840" y="4566240"/>
                  <a:ext cx="12628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107080" y="4566240"/>
                <a:ext cx="987480" cy="663480"/>
                <a:chOff x="2107080" y="4566240"/>
                <a:chExt cx="987480" cy="6634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193480" y="4566240"/>
                  <a:ext cx="8146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107080" y="4566240"/>
                  <a:ext cx="9874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095280" y="4566240"/>
                <a:ext cx="997920" cy="663480"/>
                <a:chOff x="3095280" y="4566240"/>
                <a:chExt cx="997920" cy="6634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181680" y="4566240"/>
                  <a:ext cx="8247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095280" y="4566240"/>
                  <a:ext cx="99792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093560" y="4566240"/>
                <a:ext cx="1110240" cy="663480"/>
                <a:chOff x="4093560" y="4566240"/>
                <a:chExt cx="1110240" cy="6634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179600" y="4566240"/>
                  <a:ext cx="9374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093560" y="4566240"/>
                  <a:ext cx="1110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204160" y="4566240"/>
                <a:ext cx="1031760" cy="663480"/>
                <a:chOff x="5204160" y="4566240"/>
                <a:chExt cx="1031760" cy="6634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290200" y="4566240"/>
                  <a:ext cx="858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204160" y="4566240"/>
                  <a:ext cx="103176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236640" y="4566240"/>
                <a:ext cx="957240" cy="663480"/>
                <a:chOff x="6236640" y="4566240"/>
                <a:chExt cx="957240" cy="6634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323040" y="4566240"/>
                  <a:ext cx="784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236640" y="4566240"/>
                  <a:ext cx="957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194240" y="4566240"/>
                <a:ext cx="1027440" cy="663480"/>
                <a:chOff x="7194240" y="4566240"/>
                <a:chExt cx="1027440" cy="6634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280640" y="4566240"/>
                  <a:ext cx="8546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194240" y="4566240"/>
                  <a:ext cx="10274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843840" y="5230440"/>
                <a:ext cx="1262880" cy="663480"/>
                <a:chOff x="843840" y="5230440"/>
                <a:chExt cx="1262880" cy="6634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930240" y="5230440"/>
                  <a:ext cx="1090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odalResul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43840" y="5230440"/>
                  <a:ext cx="12628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107080" y="5230440"/>
                <a:ext cx="987480" cy="663480"/>
                <a:chOff x="2107080" y="5230440"/>
                <a:chExt cx="987480" cy="6634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2193480" y="5230440"/>
                  <a:ext cx="8146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rNo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107080" y="5230440"/>
                  <a:ext cx="98748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3095280" y="5230440"/>
                <a:ext cx="997920" cy="663480"/>
                <a:chOff x="3095280" y="5230440"/>
                <a:chExt cx="997920" cy="6634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181680" y="5230440"/>
                  <a:ext cx="8247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rNo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095280" y="5230440"/>
                  <a:ext cx="99792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093560" y="5230440"/>
                <a:ext cx="1110240" cy="663480"/>
                <a:chOff x="4093560" y="5230440"/>
                <a:chExt cx="1110240" cy="6634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179600" y="5230440"/>
                  <a:ext cx="9374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rNo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093560" y="5230440"/>
                  <a:ext cx="1110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204160" y="5230440"/>
                <a:ext cx="1031760" cy="663480"/>
                <a:chOff x="5204160" y="5230440"/>
                <a:chExt cx="1031760" cy="6634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290200" y="5230440"/>
                  <a:ext cx="858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rNo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204160" y="5230440"/>
                  <a:ext cx="103176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236640" y="5230440"/>
                <a:ext cx="957240" cy="663480"/>
                <a:chOff x="6236640" y="5230440"/>
                <a:chExt cx="957240" cy="6634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323040" y="5230440"/>
                  <a:ext cx="78408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r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236640" y="5230440"/>
                  <a:ext cx="9572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7194240" y="5230440"/>
                <a:ext cx="1027440" cy="663480"/>
                <a:chOff x="7194240" y="5230440"/>
                <a:chExt cx="1027440" cy="6634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7280640" y="5230440"/>
                  <a:ext cx="85464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rCanc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194240" y="5230440"/>
                  <a:ext cx="1027440" cy="66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838080" y="1905120"/>
              <a:ext cx="7391160" cy="3995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304920" y="1295280"/>
            <a:ext cx="8533800" cy="5181480"/>
            <a:chOff x="304920" y="1295280"/>
            <a:chExt cx="8533800" cy="5181480"/>
          </a:xfrm>
        </p:grpSpPr>
        <p:grpSp>
          <p:nvGrpSpPr>
            <p:cNvPr id="344" name=""/>
            <p:cNvGrpSpPr/>
            <p:nvPr/>
          </p:nvGrpSpPr>
          <p:grpSpPr>
            <a:xfrm>
              <a:off x="312120" y="1301400"/>
              <a:ext cx="8517960" cy="5167800"/>
              <a:chOff x="312120" y="1301400"/>
              <a:chExt cx="8517960" cy="516780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312120" y="1301400"/>
                <a:ext cx="1592640" cy="809640"/>
                <a:chOff x="312120" y="1301400"/>
                <a:chExt cx="1592640" cy="8096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19400" y="1301400"/>
                  <a:ext cx="1377720" cy="80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12120" y="1301400"/>
                  <a:ext cx="1592640" cy="80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1905120" y="1301400"/>
                <a:ext cx="6924960" cy="809640"/>
                <a:chOff x="1905120" y="1301400"/>
                <a:chExt cx="6924960" cy="809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1680" y="1301400"/>
                  <a:ext cx="6710760" cy="80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905120" y="1301400"/>
                  <a:ext cx="6924960" cy="80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12120" y="2111400"/>
                <a:ext cx="1592640" cy="996120"/>
                <a:chOff x="312120" y="2111400"/>
                <a:chExt cx="1592640" cy="996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19400" y="2111400"/>
                  <a:ext cx="1377720" cy="99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nc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12120" y="2111400"/>
                  <a:ext cx="1592640" cy="99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1905120" y="2111400"/>
                <a:ext cx="6924960" cy="996120"/>
                <a:chOff x="1905120" y="2111400"/>
                <a:chExt cx="6924960" cy="996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011680" y="2111400"/>
                  <a:ext cx="6710760" cy="99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该属性值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Tru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时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,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则无论用户何时按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Es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键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,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都会执行该按钮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OnClick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事件。如果同一个窗体上具有多个这样的按钮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,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则会执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TabOrder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值最小的按钮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OnClick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事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905120" y="2111400"/>
                  <a:ext cx="6924960" cy="99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12120" y="3107880"/>
                <a:ext cx="1592640" cy="1181880"/>
                <a:chOff x="312120" y="3107880"/>
                <a:chExt cx="1592640" cy="11818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19400" y="3107880"/>
                  <a:ext cx="1377720" cy="118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efaul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12120" y="3107880"/>
                  <a:ext cx="1592640" cy="118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905120" y="3107880"/>
                <a:ext cx="6924960" cy="1181880"/>
                <a:chOff x="1905120" y="3107880"/>
                <a:chExt cx="6924960" cy="1181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011680" y="3107880"/>
                  <a:ext cx="6710760" cy="118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这个属性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Cance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属性相似。当用户按下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Enter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键时，将执行该按钮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OnClick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事件。但有一个例外，如果当前拥有输入焦点的控件为另一个按钮时，按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Enter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键时则只执行当前按钮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OnClick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事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905120" y="3107880"/>
                  <a:ext cx="6924960" cy="118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312120" y="4290480"/>
                <a:ext cx="1592640" cy="1182240"/>
                <a:chOff x="312120" y="4290480"/>
                <a:chExt cx="1592640" cy="1182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19400" y="4290480"/>
                  <a:ext cx="1377720" cy="118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Ki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12120" y="4290480"/>
                  <a:ext cx="1592640" cy="118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905120" y="4290480"/>
                <a:ext cx="6924960" cy="1182240"/>
                <a:chOff x="1905120" y="4290480"/>
                <a:chExt cx="6924960" cy="11822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011680" y="4290480"/>
                  <a:ext cx="6710760" cy="118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这个属性为位图按钮所特有，选择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Kind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属性的某个选项，用于决定该位图按钮的种类每一种位图按钮具有自己独特的功能。位图按钮常用于各种对话框或模态窗口中，根据按钮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ModalResult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属性值来决定对模态窗口的操作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905120" y="4290480"/>
                  <a:ext cx="6924960" cy="118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312120" y="5473080"/>
                <a:ext cx="1592640" cy="996120"/>
                <a:chOff x="312120" y="5473080"/>
                <a:chExt cx="1592640" cy="996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19400" y="5473080"/>
                  <a:ext cx="1377720" cy="99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odalResul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2120" y="5473080"/>
                  <a:ext cx="1592640" cy="99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905120" y="5473080"/>
                <a:ext cx="6924960" cy="996120"/>
                <a:chOff x="1905120" y="5473080"/>
                <a:chExt cx="6924960" cy="996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011680" y="5473080"/>
                  <a:ext cx="6710760" cy="99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模态值。当单击位图按钮时，将把对话框的模态值设为相同的值。它将决定位图按钮的父窗体的关闭方式。如单击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mbOk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按钮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,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将关闭对话框，返回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ˎ̥"/>
                    </a:rPr>
                    <a:t>mrOk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ˎ̥"/>
                      <a:ea typeface="宋体"/>
                    </a:rPr>
                    <a:t>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905120" y="5473080"/>
                  <a:ext cx="6924960" cy="99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>
              <a:off x="304920" y="1295280"/>
              <a:ext cx="8533800" cy="518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743200" y="6094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各按钮属性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4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单选按钮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379080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图3－21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667400" cy="2874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8600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选按钮实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762120" y="2057400"/>
            <a:ext cx="7543440" cy="3733560"/>
            <a:chOff x="762120" y="2057400"/>
            <a:chExt cx="7543440" cy="3733560"/>
          </a:xfrm>
        </p:grpSpPr>
        <p:grpSp>
          <p:nvGrpSpPr>
            <p:cNvPr id="383" name=""/>
            <p:cNvGrpSpPr/>
            <p:nvPr/>
          </p:nvGrpSpPr>
          <p:grpSpPr>
            <a:xfrm>
              <a:off x="768240" y="2064600"/>
              <a:ext cx="7529760" cy="3717360"/>
              <a:chOff x="768240" y="2064600"/>
              <a:chExt cx="7529760" cy="371736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768240" y="2064600"/>
                <a:ext cx="1109160" cy="947880"/>
                <a:chOff x="768240" y="2064600"/>
                <a:chExt cx="1109160" cy="9478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862560" y="2064600"/>
                  <a:ext cx="9208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68240" y="2064600"/>
                  <a:ext cx="1109160" cy="94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1877760" y="2064600"/>
                <a:ext cx="1201680" cy="947880"/>
                <a:chOff x="1877760" y="2064600"/>
                <a:chExt cx="1201680" cy="9478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972080" y="2064600"/>
                  <a:ext cx="10126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数据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877760" y="2064600"/>
                  <a:ext cx="1201680" cy="94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080160" y="2064600"/>
                <a:ext cx="5217840" cy="947880"/>
                <a:chOff x="3080160" y="2064600"/>
                <a:chExt cx="5217840" cy="9478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174120" y="2064600"/>
                  <a:ext cx="502920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080160" y="2064600"/>
                  <a:ext cx="5217840" cy="94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68240" y="3012840"/>
                <a:ext cx="1109160" cy="1602360"/>
                <a:chOff x="768240" y="3012840"/>
                <a:chExt cx="1109160" cy="16023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862560" y="3012840"/>
                  <a:ext cx="920880" cy="16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lignment</a:t>
                  </a:r>
                  <a:br>
                    <a:rPr sz="1800"/>
                  </a:br>
                  <a:br>
                    <a:rPr sz="1800"/>
                  </a:b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68240" y="3012840"/>
                  <a:ext cx="1109160" cy="160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1877760" y="3012840"/>
                <a:ext cx="1201680" cy="1602360"/>
                <a:chOff x="1877760" y="3012840"/>
                <a:chExt cx="1201680" cy="16023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972080" y="3012840"/>
                  <a:ext cx="1012680" cy="16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leftRight</a:t>
                  </a:r>
                  <a:br>
                    <a:rPr sz="1800"/>
                  </a:br>
                  <a:br>
                    <a:rPr sz="1800"/>
                  </a:b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877760" y="3012840"/>
                  <a:ext cx="1201680" cy="160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080160" y="3012840"/>
                <a:ext cx="5217840" cy="1602360"/>
                <a:chOff x="3080160" y="3012840"/>
                <a:chExt cx="5217840" cy="16023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174120" y="3012840"/>
                  <a:ext cx="5029200" cy="16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单选框的文字与小圆圈的位置关系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aLeftJustify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文字显示在小圆圈的左边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aRightJustify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文字显示在小圆圈的右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080160" y="3012840"/>
                  <a:ext cx="5217840" cy="160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768240" y="4615560"/>
                <a:ext cx="1109160" cy="1166400"/>
                <a:chOff x="768240" y="4615560"/>
                <a:chExt cx="1109160" cy="11664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862560" y="4615560"/>
                  <a:ext cx="920880" cy="11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heck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8240" y="4615560"/>
                  <a:ext cx="1109160" cy="116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1877760" y="4615560"/>
                <a:ext cx="1201680" cy="1166400"/>
                <a:chOff x="1877760" y="4615560"/>
                <a:chExt cx="1201680" cy="11664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1972080" y="4615560"/>
                  <a:ext cx="1012680" cy="11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877760" y="4615560"/>
                  <a:ext cx="1201680" cy="116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080160" y="4615560"/>
                <a:ext cx="5217840" cy="1166400"/>
                <a:chOff x="3080160" y="4615560"/>
                <a:chExt cx="5217840" cy="11664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174120" y="4615560"/>
                  <a:ext cx="5029200" cy="11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这个属性用于设置选项是否被选中，当值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时，表示选中；当值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时，表示未选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080160" y="4615560"/>
                  <a:ext cx="5217840" cy="116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1" name=""/>
            <p:cNvSpPr/>
            <p:nvPr/>
          </p:nvSpPr>
          <p:spPr>
            <a:xfrm>
              <a:off x="762120" y="2057400"/>
              <a:ext cx="754344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1800" y="1371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选按钮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1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4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分组框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"/>
          <p:cNvSpPr/>
          <p:nvPr/>
        </p:nvSpPr>
        <p:spPr>
          <a:xfrm>
            <a:off x="342432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105520" cy="3643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997680" y="1981080"/>
            <a:ext cx="546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组框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4.5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单选按钮组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329580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图3－23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456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133720" y="53341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选按钮组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6765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6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选按钮组的常用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62120" y="2168640"/>
            <a:ext cx="7543440" cy="3317400"/>
            <a:chOff x="762120" y="2168640"/>
            <a:chExt cx="7543440" cy="3317400"/>
          </a:xfrm>
        </p:grpSpPr>
        <p:grpSp>
          <p:nvGrpSpPr>
            <p:cNvPr id="425" name=""/>
            <p:cNvGrpSpPr/>
            <p:nvPr/>
          </p:nvGrpSpPr>
          <p:grpSpPr>
            <a:xfrm>
              <a:off x="768600" y="2174760"/>
              <a:ext cx="7528320" cy="3304080"/>
              <a:chOff x="768600" y="2174760"/>
              <a:chExt cx="7528320" cy="330408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768600" y="2174760"/>
                <a:ext cx="1346760" cy="780840"/>
                <a:chOff x="768600" y="2174760"/>
                <a:chExt cx="1346760" cy="7808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867240" y="2174760"/>
                  <a:ext cx="1149480" cy="78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68600" y="2174760"/>
                  <a:ext cx="1346760" cy="78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2115720" y="2174760"/>
                <a:ext cx="1365120" cy="780840"/>
                <a:chOff x="2115720" y="2174760"/>
                <a:chExt cx="1365120" cy="7808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214360" y="2174760"/>
                  <a:ext cx="1167840" cy="78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数据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115720" y="2174760"/>
                  <a:ext cx="1365120" cy="78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481200" y="2174760"/>
                <a:ext cx="4815720" cy="780840"/>
                <a:chOff x="3481200" y="2174760"/>
                <a:chExt cx="4815720" cy="780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579840" y="2174760"/>
                  <a:ext cx="4618800" cy="78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81200" y="2174760"/>
                  <a:ext cx="4815720" cy="78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768600" y="2955960"/>
                <a:ext cx="1346760" cy="780840"/>
                <a:chOff x="768600" y="2955960"/>
                <a:chExt cx="1346760" cy="7808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867240" y="2955960"/>
                  <a:ext cx="1149480" cy="78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olumn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68600" y="2955960"/>
                  <a:ext cx="1346760" cy="78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115720" y="2955960"/>
                <a:ext cx="1365120" cy="780840"/>
                <a:chOff x="2115720" y="2955960"/>
                <a:chExt cx="1365120" cy="78084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214360" y="2955960"/>
                  <a:ext cx="1167840" cy="78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ongi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115720" y="2955960"/>
                  <a:ext cx="1365120" cy="78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3481200" y="2955960"/>
                <a:ext cx="4815720" cy="780840"/>
                <a:chOff x="3481200" y="2955960"/>
                <a:chExt cx="4815720" cy="7808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579840" y="2955960"/>
                  <a:ext cx="4618800" cy="78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单选按钮组中的栏数，默认值为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最大可设为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481200" y="2955960"/>
                  <a:ext cx="4815720" cy="78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68600" y="3737160"/>
                <a:ext cx="1346760" cy="781200"/>
                <a:chOff x="768600" y="3737160"/>
                <a:chExt cx="1346760" cy="7812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867240" y="3737160"/>
                  <a:ext cx="1149480" cy="78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tem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68600" y="3737160"/>
                  <a:ext cx="134676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2115720" y="3737160"/>
                <a:ext cx="1365120" cy="781200"/>
                <a:chOff x="2115720" y="3737160"/>
                <a:chExt cx="1365120" cy="7812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214360" y="3737160"/>
                  <a:ext cx="1167840" cy="78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115720" y="3737160"/>
                  <a:ext cx="136512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481200" y="3737160"/>
                <a:ext cx="4815720" cy="781200"/>
                <a:chOff x="3481200" y="3737160"/>
                <a:chExt cx="4815720" cy="7812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579840" y="3737160"/>
                  <a:ext cx="4618800" cy="78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返回单选按钮组中被选择的项的序号，第一项为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481200" y="3737160"/>
                  <a:ext cx="4815720" cy="78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68600" y="4518720"/>
                <a:ext cx="1346760" cy="960120"/>
                <a:chOff x="768600" y="4518720"/>
                <a:chExt cx="1346760" cy="9601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867240" y="4518720"/>
                  <a:ext cx="1149480" cy="9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term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8600" y="4518720"/>
                  <a:ext cx="1346760" cy="9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115720" y="4518720"/>
                <a:ext cx="1365120" cy="960120"/>
                <a:chOff x="2115720" y="4518720"/>
                <a:chExt cx="1365120" cy="9601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214360" y="4518720"/>
                  <a:ext cx="1167840" cy="9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str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115720" y="4518720"/>
                  <a:ext cx="1365120" cy="9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481200" y="4518720"/>
                <a:ext cx="4815720" cy="960120"/>
                <a:chOff x="3481200" y="4518720"/>
                <a:chExt cx="4815720" cy="960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579840" y="4518720"/>
                  <a:ext cx="4618800" cy="96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在设计期，可以在编辑器中输入每个单选框的标题，在运行期，可以通过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strings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对象来操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terms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特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481200" y="4518720"/>
                  <a:ext cx="4815720" cy="96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762120" y="2168640"/>
              <a:ext cx="7543440" cy="3317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4.6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面板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"/>
          <p:cNvSpPr/>
          <p:nvPr/>
        </p:nvSpPr>
        <p:spPr>
          <a:xfrm>
            <a:off x="2514600" y="1752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7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面板控件的常用属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804960" y="2666880"/>
            <a:ext cx="7467120" cy="2895480"/>
            <a:chOff x="804960" y="2666880"/>
            <a:chExt cx="7467120" cy="2895480"/>
          </a:xfrm>
        </p:grpSpPr>
        <p:grpSp>
          <p:nvGrpSpPr>
            <p:cNvPr id="467" name=""/>
            <p:cNvGrpSpPr/>
            <p:nvPr/>
          </p:nvGrpSpPr>
          <p:grpSpPr>
            <a:xfrm>
              <a:off x="811080" y="2671920"/>
              <a:ext cx="7453440" cy="2883960"/>
              <a:chOff x="811080" y="2671920"/>
              <a:chExt cx="7453440" cy="288396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811080" y="2671920"/>
                <a:ext cx="1461240" cy="681480"/>
                <a:chOff x="811080" y="2671920"/>
                <a:chExt cx="1461240" cy="6814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903600" y="2671920"/>
                  <a:ext cx="127620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11080" y="2671920"/>
                  <a:ext cx="146124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272680" y="2671920"/>
                <a:ext cx="1288800" cy="681480"/>
                <a:chOff x="2272680" y="2671920"/>
                <a:chExt cx="1288800" cy="6814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364480" y="2671920"/>
                  <a:ext cx="110448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数据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272680" y="2671920"/>
                  <a:ext cx="128880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561840" y="2671920"/>
                <a:ext cx="4702680" cy="681480"/>
                <a:chOff x="3561840" y="2671920"/>
                <a:chExt cx="4702680" cy="6814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654360" y="2671920"/>
                  <a:ext cx="451764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561840" y="2671920"/>
                  <a:ext cx="47026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811080" y="3353760"/>
                <a:ext cx="1461240" cy="681480"/>
                <a:chOff x="811080" y="3353760"/>
                <a:chExt cx="1461240" cy="681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903600" y="3353760"/>
                  <a:ext cx="127620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lig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1080" y="3353760"/>
                  <a:ext cx="146124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272680" y="3353760"/>
                <a:ext cx="1288800" cy="681480"/>
                <a:chOff x="2272680" y="3353760"/>
                <a:chExt cx="1288800" cy="6814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364480" y="3353760"/>
                  <a:ext cx="110448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Alig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272680" y="3353760"/>
                  <a:ext cx="128880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3561840" y="3353760"/>
                <a:ext cx="4702680" cy="681480"/>
                <a:chOff x="3561840" y="3353760"/>
                <a:chExt cx="4702680" cy="6814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654360" y="3353760"/>
                  <a:ext cx="451764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面板控件在窗体中的放置位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561840" y="3353760"/>
                  <a:ext cx="47026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811080" y="4035600"/>
                <a:ext cx="1461240" cy="838440"/>
                <a:chOff x="811080" y="4035600"/>
                <a:chExt cx="1461240" cy="8384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903600" y="4035600"/>
                  <a:ext cx="127620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evelInn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11080" y="4035600"/>
                  <a:ext cx="146124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2272680" y="4035600"/>
                <a:ext cx="1288800" cy="838440"/>
                <a:chOff x="2272680" y="4035600"/>
                <a:chExt cx="1288800" cy="838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2364480" y="4035600"/>
                  <a:ext cx="110448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bevelCu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272680" y="4035600"/>
                  <a:ext cx="128880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561840" y="4035600"/>
                <a:ext cx="4702680" cy="838440"/>
                <a:chOff x="3561840" y="4035600"/>
                <a:chExt cx="4702680" cy="8384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654360" y="4035600"/>
                  <a:ext cx="451764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面板的内部斜面样式，可以设为以下值：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vNon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（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没有斜面）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vLowered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（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沉降的斜面）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vRiased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（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升起的斜面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561840" y="4035600"/>
                  <a:ext cx="4702680" cy="83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811080" y="4874400"/>
                <a:ext cx="1461240" cy="681480"/>
                <a:chOff x="811080" y="4874400"/>
                <a:chExt cx="1461240" cy="6814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903600" y="4874400"/>
                  <a:ext cx="127620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evelOut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11080" y="4874400"/>
                  <a:ext cx="146124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2272680" y="4874400"/>
                <a:ext cx="1288800" cy="681480"/>
                <a:chOff x="2272680" y="4874400"/>
                <a:chExt cx="1288800" cy="6814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2364480" y="4874400"/>
                  <a:ext cx="110448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BevelCu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272680" y="4874400"/>
                  <a:ext cx="128880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3561840" y="4874400"/>
                <a:ext cx="4702680" cy="681480"/>
                <a:chOff x="3561840" y="4874400"/>
                <a:chExt cx="4702680" cy="68148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3654360" y="4874400"/>
                  <a:ext cx="4517640" cy="68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面板的外斜面形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561840" y="4874400"/>
                  <a:ext cx="4702680" cy="68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804960" y="2666880"/>
              <a:ext cx="7467120" cy="2895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762120" y="1295280"/>
            <a:ext cx="7543440" cy="4589640"/>
            <a:chOff x="762120" y="1295280"/>
            <a:chExt cx="7543440" cy="4589640"/>
          </a:xfrm>
        </p:grpSpPr>
        <p:grpSp>
          <p:nvGrpSpPr>
            <p:cNvPr id="506" name=""/>
            <p:cNvGrpSpPr/>
            <p:nvPr/>
          </p:nvGrpSpPr>
          <p:grpSpPr>
            <a:xfrm>
              <a:off x="768240" y="1299600"/>
              <a:ext cx="7530120" cy="4579920"/>
              <a:chOff x="768240" y="1299600"/>
              <a:chExt cx="7530120" cy="457992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768240" y="1299600"/>
                <a:ext cx="1476360" cy="572400"/>
                <a:chOff x="768240" y="1299600"/>
                <a:chExt cx="1476360" cy="5724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61480" y="1299600"/>
                  <a:ext cx="128916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evelWid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68240" y="1299600"/>
                  <a:ext cx="14763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244960" y="1299600"/>
                <a:ext cx="1301760" cy="572400"/>
                <a:chOff x="2244960" y="1299600"/>
                <a:chExt cx="1301760" cy="5724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2337840" y="1299600"/>
                  <a:ext cx="11156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4960" y="1299600"/>
                  <a:ext cx="13017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3547440" y="1299600"/>
                <a:ext cx="4750920" cy="572400"/>
                <a:chOff x="3547440" y="1299600"/>
                <a:chExt cx="4750920" cy="5724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3640680" y="1299600"/>
                  <a:ext cx="456372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面板的斜面宽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547440" y="1299600"/>
                  <a:ext cx="475092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768240" y="1872000"/>
                <a:ext cx="1476360" cy="572400"/>
                <a:chOff x="768240" y="1872000"/>
                <a:chExt cx="1476360" cy="5724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861480" y="1872000"/>
                  <a:ext cx="128916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rderSty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68240" y="1872000"/>
                  <a:ext cx="14763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2244960" y="1872000"/>
                <a:ext cx="1301760" cy="572400"/>
                <a:chOff x="2244960" y="1872000"/>
                <a:chExt cx="1301760" cy="572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337840" y="1872000"/>
                  <a:ext cx="11156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BorderSty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244960" y="1872000"/>
                  <a:ext cx="13017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547440" y="1872000"/>
                <a:ext cx="4750920" cy="572400"/>
                <a:chOff x="3547440" y="1872000"/>
                <a:chExt cx="4750920" cy="5724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3640680" y="1872000"/>
                  <a:ext cx="456372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面板的边框样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547440" y="1872000"/>
                  <a:ext cx="475092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768240" y="2444400"/>
                <a:ext cx="1476360" cy="572760"/>
                <a:chOff x="768240" y="2444400"/>
                <a:chExt cx="1476360" cy="5727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861480" y="2444400"/>
                  <a:ext cx="1289160" cy="57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rderWidt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68240" y="2444400"/>
                  <a:ext cx="1476360" cy="57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244960" y="2444400"/>
                <a:ext cx="1301760" cy="572760"/>
                <a:chOff x="2244960" y="2444400"/>
                <a:chExt cx="1301760" cy="5727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2337840" y="2444400"/>
                  <a:ext cx="1115640" cy="57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244960" y="2444400"/>
                  <a:ext cx="1301760" cy="57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547440" y="2444400"/>
                <a:ext cx="4750920" cy="572760"/>
                <a:chOff x="3547440" y="2444400"/>
                <a:chExt cx="4750920" cy="5727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640680" y="2444400"/>
                  <a:ext cx="4563720" cy="57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面板的边框宽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547440" y="2444400"/>
                  <a:ext cx="4750920" cy="57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768240" y="3017160"/>
                <a:ext cx="1476360" cy="572400"/>
                <a:chOff x="768240" y="3017160"/>
                <a:chExt cx="1476360" cy="5724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861480" y="3017160"/>
                  <a:ext cx="128916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p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68240" y="3017160"/>
                  <a:ext cx="14763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2244960" y="3017160"/>
                <a:ext cx="1301760" cy="572400"/>
                <a:chOff x="2244960" y="3017160"/>
                <a:chExt cx="1301760" cy="5724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2337840" y="3017160"/>
                  <a:ext cx="11156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r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4960" y="3017160"/>
                  <a:ext cx="13017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3547440" y="3017160"/>
                <a:ext cx="4750920" cy="572400"/>
                <a:chOff x="3547440" y="3017160"/>
                <a:chExt cx="4750920" cy="5724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640680" y="3017160"/>
                  <a:ext cx="456372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面板控件使用的标题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547440" y="3017160"/>
                  <a:ext cx="475092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768240" y="3589560"/>
                <a:ext cx="1476360" cy="572400"/>
                <a:chOff x="768240" y="3589560"/>
                <a:chExt cx="1476360" cy="5724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861480" y="3589560"/>
                  <a:ext cx="128916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ontrolCou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68240" y="3589560"/>
                  <a:ext cx="14763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2244960" y="3589560"/>
                <a:ext cx="1301760" cy="572400"/>
                <a:chOff x="2244960" y="3589560"/>
                <a:chExt cx="1301760" cy="5724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337840" y="3589560"/>
                  <a:ext cx="11156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244960" y="3589560"/>
                  <a:ext cx="13017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3547440" y="3589560"/>
                <a:ext cx="4750920" cy="572400"/>
                <a:chOff x="3547440" y="3589560"/>
                <a:chExt cx="4750920" cy="572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640680" y="3589560"/>
                  <a:ext cx="456372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面板中的子控件数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547440" y="3589560"/>
                  <a:ext cx="475092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768240" y="4161960"/>
                <a:ext cx="1476360" cy="572400"/>
                <a:chOff x="768240" y="4161960"/>
                <a:chExt cx="1476360" cy="5724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861480" y="4161960"/>
                  <a:ext cx="128916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ontrol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68240" y="4161960"/>
                  <a:ext cx="14763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2244960" y="4161960"/>
                <a:ext cx="1301760" cy="572400"/>
                <a:chOff x="2244960" y="4161960"/>
                <a:chExt cx="1301760" cy="5724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2337840" y="4161960"/>
                  <a:ext cx="11156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244960" y="4161960"/>
                  <a:ext cx="13017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3547440" y="4161960"/>
                <a:ext cx="4750920" cy="572400"/>
                <a:chOff x="3547440" y="4161960"/>
                <a:chExt cx="4750920" cy="5724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640680" y="4161960"/>
                  <a:ext cx="456372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面板中的控件数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547440" y="4161960"/>
                  <a:ext cx="475092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768240" y="4734360"/>
                <a:ext cx="1476360" cy="572760"/>
                <a:chOff x="768240" y="4734360"/>
                <a:chExt cx="1476360" cy="5727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861480" y="4734360"/>
                  <a:ext cx="1289160" cy="57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nabl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68240" y="4734360"/>
                  <a:ext cx="1476360" cy="57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2244960" y="4734360"/>
                <a:ext cx="1301760" cy="572760"/>
                <a:chOff x="2244960" y="4734360"/>
                <a:chExt cx="1301760" cy="5727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337840" y="4734360"/>
                  <a:ext cx="1115640" cy="57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244960" y="4734360"/>
                  <a:ext cx="1301760" cy="57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3547440" y="4734360"/>
                <a:ext cx="4750920" cy="572760"/>
                <a:chOff x="3547440" y="4734360"/>
                <a:chExt cx="4750920" cy="5727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3640680" y="4734360"/>
                  <a:ext cx="4563720" cy="57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面板中的所有子控件是允许还是被禁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47440" y="4734360"/>
                  <a:ext cx="4750920" cy="57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768240" y="5307120"/>
                <a:ext cx="1476360" cy="572400"/>
                <a:chOff x="768240" y="5307120"/>
                <a:chExt cx="1476360" cy="57240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861480" y="5307120"/>
                  <a:ext cx="128916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and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8240" y="5307120"/>
                  <a:ext cx="14763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2244960" y="5307120"/>
                <a:ext cx="1301760" cy="572400"/>
                <a:chOff x="2244960" y="5307120"/>
                <a:chExt cx="1301760" cy="5724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337840" y="5307120"/>
                  <a:ext cx="11156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Wn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44960" y="5307120"/>
                  <a:ext cx="130176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3547440" y="5307120"/>
                <a:ext cx="4750920" cy="572400"/>
                <a:chOff x="3547440" y="5307120"/>
                <a:chExt cx="4750920" cy="5724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640680" y="5307120"/>
                  <a:ext cx="456372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面板的窗口句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547440" y="5307120"/>
                  <a:ext cx="475092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9" name=""/>
            <p:cNvSpPr/>
            <p:nvPr/>
          </p:nvSpPr>
          <p:spPr>
            <a:xfrm>
              <a:off x="762120" y="1295280"/>
              <a:ext cx="7543440" cy="4589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2895480" y="533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7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面板控件的常用属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rId1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3.4.7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框架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框架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8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框架的共享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添加框架到控件板上（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添加框架到对象库中（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框架的使用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-31~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的设计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09680" y="2057400"/>
            <a:ext cx="465624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9560" indent="-259560" algn="just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Black"/>
                <a:ea typeface="宋体"/>
                <a:hlinkClick r:id="rId1" action="ppaction://hlinksldjump"/>
              </a:rPr>
              <a:t>3.1.1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菜单界面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-259560" algn="just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Black"/>
                <a:ea typeface="宋体"/>
                <a:hlinkClick r:id="rId3" action="ppaction://hlinksldjump"/>
              </a:rPr>
              <a:t>3.1.2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4" action="ppaction://hlinksldjump"/>
              </a:rPr>
              <a:t>主菜单设计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560" indent="-259560" algn="just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Black"/>
                <a:ea typeface="宋体"/>
                <a:hlinkClick r:id="rId5" action="ppaction://hlinksldjump"/>
              </a:rPr>
              <a:t>3.1.3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6" action="ppaction://hlinksldjump"/>
              </a:rPr>
              <a:t>弹出型菜单设计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35622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图3－24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60020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建的框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133720" y="16765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-8 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框架的属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371600" y="2666880"/>
            <a:ext cx="6552720" cy="2742840"/>
            <a:chOff x="1371600" y="2666880"/>
            <a:chExt cx="6552720" cy="2742840"/>
          </a:xfrm>
        </p:grpSpPr>
        <p:grpSp>
          <p:nvGrpSpPr>
            <p:cNvPr id="589" name=""/>
            <p:cNvGrpSpPr/>
            <p:nvPr/>
          </p:nvGrpSpPr>
          <p:grpSpPr>
            <a:xfrm>
              <a:off x="1379160" y="2674800"/>
              <a:ext cx="6536160" cy="2725920"/>
              <a:chOff x="1379160" y="2674800"/>
              <a:chExt cx="6536160" cy="272592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379160" y="2674800"/>
                <a:ext cx="3212640" cy="1013040"/>
                <a:chOff x="1379160" y="2674800"/>
                <a:chExt cx="3212640" cy="10130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492560" y="2674800"/>
                  <a:ext cx="2985480" cy="10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379160" y="2674800"/>
                  <a:ext cx="3212640" cy="101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4592160" y="2674800"/>
                <a:ext cx="3323160" cy="1013040"/>
                <a:chOff x="4592160" y="2674800"/>
                <a:chExt cx="3323160" cy="10130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4704840" y="2674800"/>
                  <a:ext cx="3096720" cy="10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592160" y="2674800"/>
                  <a:ext cx="3323160" cy="101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1379160" y="3688200"/>
                <a:ext cx="3212640" cy="1712520"/>
                <a:chOff x="1379160" y="3688200"/>
                <a:chExt cx="3212640" cy="171252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492560" y="3688200"/>
                  <a:ext cx="2985480" cy="17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a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o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eigh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Widt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379160" y="3688200"/>
                  <a:ext cx="3212640" cy="171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592160" y="3688200"/>
                <a:ext cx="3323160" cy="1712520"/>
                <a:chOff x="4592160" y="3688200"/>
                <a:chExt cx="3323160" cy="17125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4704840" y="3688200"/>
                  <a:ext cx="3096720" cy="17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Fra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华彩、五号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9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592160" y="3688200"/>
                  <a:ext cx="3323160" cy="171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2" name=""/>
            <p:cNvSpPr/>
            <p:nvPr/>
          </p:nvSpPr>
          <p:spPr>
            <a:xfrm>
              <a:off x="1371600" y="2666880"/>
              <a:ext cx="6552720" cy="274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4146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图3－26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53080" cy="316368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600200" y="54100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-27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onent Template Informatio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2194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图3－27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543800" cy="9907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52480" y="4572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添加的框架图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14316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图3－28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543280" cy="32144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7524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9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o Repository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3004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图3-29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52800" cy="39798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676520" y="5486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了框架的对象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81448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图3－30" descr=""/>
          <p:cNvPicPr/>
          <p:nvPr/>
        </p:nvPicPr>
        <p:blipFill>
          <a:blip r:embed="rId1"/>
          <a:stretch/>
        </p:blipFill>
        <p:spPr>
          <a:xfrm>
            <a:off x="1295280" y="2300400"/>
            <a:ext cx="6481800" cy="16524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828800" y="4495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认添加单元文件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1932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图3－31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334120" cy="368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752480" y="54100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了框架的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2623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图3－32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195880" cy="29480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 Frame to Inse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rId2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4.8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面板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39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ve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的常用属性如下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ha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类型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BevelSha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形状。可供选择的值如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y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类型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BevelSty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确定斜面是否凹陷或凸起。当选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sLower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值时，斜面凹陷；当选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sRais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值时，斜面凸起。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1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界面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50480" y="2000160"/>
            <a:ext cx="7194600" cy="34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命令被选中后，一般来说有以下三种作用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执行某种应用程序的操作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设置某特殊选项的状态，这些命令常用复选标记“”或单选标记“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来表明该选项是否处于有效状态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打开对话框，具体操作在对话框中进行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533520" y="1066680"/>
            <a:ext cx="8000640" cy="5486040"/>
            <a:chOff x="533520" y="1066680"/>
            <a:chExt cx="8000640" cy="5486040"/>
          </a:xfrm>
        </p:grpSpPr>
        <p:grpSp>
          <p:nvGrpSpPr>
            <p:cNvPr id="628" name=""/>
            <p:cNvGrpSpPr/>
            <p:nvPr/>
          </p:nvGrpSpPr>
          <p:grpSpPr>
            <a:xfrm>
              <a:off x="541080" y="1071720"/>
              <a:ext cx="7983720" cy="5474520"/>
              <a:chOff x="541080" y="1071720"/>
              <a:chExt cx="7983720" cy="547452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541080" y="1071720"/>
                <a:ext cx="2235960" cy="683640"/>
                <a:chOff x="541080" y="1071720"/>
                <a:chExt cx="2235960" cy="6836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56280" y="1071720"/>
                  <a:ext cx="20055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41080" y="1071720"/>
                  <a:ext cx="223596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2777400" y="1071720"/>
                <a:ext cx="5747400" cy="683640"/>
                <a:chOff x="2777400" y="1071720"/>
                <a:chExt cx="5747400" cy="68364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2891880" y="1071720"/>
                  <a:ext cx="55173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含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777400" y="1071720"/>
                  <a:ext cx="574740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41080" y="1755720"/>
                <a:ext cx="2235960" cy="683640"/>
                <a:chOff x="541080" y="1755720"/>
                <a:chExt cx="2235960" cy="6836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56280" y="1755720"/>
                  <a:ext cx="20055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sBo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41080" y="1755720"/>
                  <a:ext cx="223596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777400" y="1755720"/>
                <a:ext cx="5747400" cy="683640"/>
                <a:chOff x="2777400" y="1755720"/>
                <a:chExt cx="5747400" cy="68364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891880" y="1755720"/>
                  <a:ext cx="55173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矩形框，根据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tyl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属性决定客户区域的凹陷与凸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777400" y="1755720"/>
                  <a:ext cx="574740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541080" y="2440080"/>
                <a:ext cx="2235960" cy="684000"/>
                <a:chOff x="541080" y="2440080"/>
                <a:chExt cx="2235960" cy="68400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56280" y="2440080"/>
                  <a:ext cx="200556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sFra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41080" y="2440080"/>
                  <a:ext cx="223596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2777400" y="2440080"/>
                <a:ext cx="5747400" cy="684000"/>
                <a:chOff x="2777400" y="2440080"/>
                <a:chExt cx="5747400" cy="6840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2891880" y="2440080"/>
                  <a:ext cx="551736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矩形轮廓，客户区域由凹陷与凸起的轮廓包围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777400" y="2440080"/>
                  <a:ext cx="574740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41080" y="3124800"/>
                <a:ext cx="2235960" cy="683640"/>
                <a:chOff x="541080" y="3124800"/>
                <a:chExt cx="2235960" cy="6836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656280" y="3124800"/>
                  <a:ext cx="20055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sTopLi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41080" y="3124800"/>
                  <a:ext cx="223596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2777400" y="3124800"/>
                <a:ext cx="5747400" cy="683640"/>
                <a:chOff x="2777400" y="3124800"/>
                <a:chExt cx="5747400" cy="68364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2891880" y="3124800"/>
                  <a:ext cx="55173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在客户区域的上边显示一条线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777400" y="3124800"/>
                  <a:ext cx="574740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541080" y="3809160"/>
                <a:ext cx="2235960" cy="683640"/>
                <a:chOff x="541080" y="3809160"/>
                <a:chExt cx="2235960" cy="68364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56280" y="3809160"/>
                  <a:ext cx="20055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sBottomLi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41080" y="3809160"/>
                  <a:ext cx="223596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777400" y="3809160"/>
                <a:ext cx="5747400" cy="683640"/>
                <a:chOff x="2777400" y="3809160"/>
                <a:chExt cx="5747400" cy="6836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891880" y="3809160"/>
                  <a:ext cx="55173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在客户区域的下边显示一条线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777400" y="3809160"/>
                  <a:ext cx="574740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541080" y="4493520"/>
                <a:ext cx="2235960" cy="683640"/>
                <a:chOff x="541080" y="4493520"/>
                <a:chExt cx="2235960" cy="683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656280" y="4493520"/>
                  <a:ext cx="20055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sLeftLi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41080" y="4493520"/>
                  <a:ext cx="223596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2777400" y="4493520"/>
                <a:ext cx="5747400" cy="683640"/>
                <a:chOff x="2777400" y="4493520"/>
                <a:chExt cx="5747400" cy="6836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2891880" y="4493520"/>
                  <a:ext cx="55173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在客户区域的左边显示一条线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777400" y="4493520"/>
                  <a:ext cx="574740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541080" y="5177880"/>
                <a:ext cx="2235960" cy="684000"/>
                <a:chOff x="541080" y="5177880"/>
                <a:chExt cx="2235960" cy="6840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656280" y="5177880"/>
                  <a:ext cx="200556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sRightLi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41080" y="5177880"/>
                  <a:ext cx="223596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777400" y="5177880"/>
                <a:ext cx="5747400" cy="684000"/>
                <a:chOff x="2777400" y="5177880"/>
                <a:chExt cx="5747400" cy="68400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2891880" y="5177880"/>
                  <a:ext cx="551736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在客户区域的右边显示一条线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777400" y="5177880"/>
                  <a:ext cx="574740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41080" y="5862600"/>
                <a:ext cx="2235960" cy="683640"/>
                <a:chOff x="541080" y="5862600"/>
                <a:chExt cx="2235960" cy="68364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656280" y="5862600"/>
                  <a:ext cx="20055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sSpac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41080" y="5862600"/>
                  <a:ext cx="223596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2777400" y="5862600"/>
                <a:ext cx="5747400" cy="683640"/>
                <a:chOff x="2777400" y="5862600"/>
                <a:chExt cx="5747400" cy="68364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2891880" y="5862600"/>
                  <a:ext cx="5517360" cy="6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客户区域为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777400" y="5862600"/>
                  <a:ext cx="5747400" cy="68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7" name=""/>
            <p:cNvSpPr/>
            <p:nvPr/>
          </p:nvSpPr>
          <p:spPr>
            <a:xfrm>
              <a:off x="533520" y="1066680"/>
              <a:ext cx="8000640" cy="5486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854080" y="38088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hap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取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32892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tu3-37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748040" cy="323856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1905120" y="509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面板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y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性的不同取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>
            <a:hlinkClick r:id="rId2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1896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4.9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酷工具栏控件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4" name=""/>
          <p:cNvSpPr/>
          <p:nvPr/>
        </p:nvSpPr>
        <p:spPr>
          <a:xfrm>
            <a:off x="2438280" y="1676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olba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的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80880" y="2590920"/>
            <a:ext cx="8381880" cy="3123720"/>
            <a:chOff x="380880" y="2590920"/>
            <a:chExt cx="8381880" cy="3123720"/>
          </a:xfrm>
        </p:grpSpPr>
        <p:grpSp>
          <p:nvGrpSpPr>
            <p:cNvPr id="686" name=""/>
            <p:cNvGrpSpPr/>
            <p:nvPr/>
          </p:nvGrpSpPr>
          <p:grpSpPr>
            <a:xfrm>
              <a:off x="387720" y="2595600"/>
              <a:ext cx="8366760" cy="3113280"/>
              <a:chOff x="387720" y="2595600"/>
              <a:chExt cx="8366760" cy="31132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387720" y="2595600"/>
                <a:ext cx="1725120" cy="622080"/>
                <a:chOff x="387720" y="2595600"/>
                <a:chExt cx="1725120" cy="6220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89960" y="2595600"/>
                  <a:ext cx="152064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87720" y="2595600"/>
                  <a:ext cx="172512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2113200" y="2595600"/>
                <a:ext cx="1632600" cy="622080"/>
                <a:chOff x="2113200" y="2595600"/>
                <a:chExt cx="1632600" cy="62208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2214720" y="2595600"/>
                  <a:ext cx="142848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数据类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113200" y="2595600"/>
                  <a:ext cx="163260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3746520" y="2595600"/>
                <a:ext cx="5007960" cy="622080"/>
                <a:chOff x="3746520" y="2595600"/>
                <a:chExt cx="5007960" cy="62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3848040" y="2595600"/>
                  <a:ext cx="480456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746520" y="2595600"/>
                  <a:ext cx="500796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387720" y="3218040"/>
                <a:ext cx="1725120" cy="622080"/>
                <a:chOff x="387720" y="3218040"/>
                <a:chExt cx="1725120" cy="6220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89960" y="3218040"/>
                  <a:ext cx="152064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lig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87720" y="3218040"/>
                  <a:ext cx="172512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113200" y="3218040"/>
                <a:ext cx="1632600" cy="622080"/>
                <a:chOff x="2113200" y="3218040"/>
                <a:chExt cx="1632600" cy="62208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214720" y="3218040"/>
                  <a:ext cx="142848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Alig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113200" y="3218040"/>
                  <a:ext cx="163260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746520" y="3218040"/>
                <a:ext cx="5007960" cy="622080"/>
                <a:chOff x="3746520" y="3218040"/>
                <a:chExt cx="5007960" cy="62208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848040" y="3218040"/>
                  <a:ext cx="480456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CoolBar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控件建立的工具栏的位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746520" y="3218040"/>
                  <a:ext cx="500796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387720" y="3840840"/>
                <a:ext cx="1725120" cy="622440"/>
                <a:chOff x="387720" y="3840840"/>
                <a:chExt cx="1725120" cy="6224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489960" y="3840840"/>
                  <a:ext cx="1520640" cy="6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utoSiz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87720" y="3840840"/>
                  <a:ext cx="1725120" cy="62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2113200" y="3840840"/>
                <a:ext cx="1632600" cy="622440"/>
                <a:chOff x="2113200" y="3840840"/>
                <a:chExt cx="1632600" cy="6224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2214720" y="3840840"/>
                  <a:ext cx="1428480" cy="6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113200" y="3840840"/>
                  <a:ext cx="1632600" cy="62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3746520" y="3840840"/>
                <a:ext cx="5007960" cy="622440"/>
                <a:chOff x="3746520" y="3840840"/>
                <a:chExt cx="5007960" cy="6224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3848040" y="3840840"/>
                  <a:ext cx="4804560" cy="6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对工具栏的尺寸的自动调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746520" y="3840840"/>
                  <a:ext cx="5007960" cy="62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387720" y="4464000"/>
                <a:ext cx="1725120" cy="622080"/>
                <a:chOff x="387720" y="4464000"/>
                <a:chExt cx="1725120" cy="6220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489960" y="4464000"/>
                  <a:ext cx="152064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andBorderSty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87720" y="4464000"/>
                  <a:ext cx="172512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2113200" y="4464000"/>
                <a:ext cx="1632600" cy="622080"/>
                <a:chOff x="2113200" y="4464000"/>
                <a:chExt cx="1632600" cy="62208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2214720" y="4464000"/>
                  <a:ext cx="142848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BorderSty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113200" y="4464000"/>
                  <a:ext cx="163260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3746520" y="4464000"/>
                <a:ext cx="5007960" cy="622080"/>
                <a:chOff x="3746520" y="4464000"/>
                <a:chExt cx="5007960" cy="6220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3848040" y="4464000"/>
                  <a:ext cx="480456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置工具栏上波段的边框风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746520" y="4464000"/>
                  <a:ext cx="500796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387720" y="5086800"/>
                <a:ext cx="1725120" cy="622080"/>
                <a:chOff x="387720" y="5086800"/>
                <a:chExt cx="1725120" cy="62208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89960" y="5086800"/>
                  <a:ext cx="152064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and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87720" y="5086800"/>
                  <a:ext cx="172512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2113200" y="5086800"/>
                <a:ext cx="1632600" cy="622080"/>
                <a:chOff x="2113200" y="5086800"/>
                <a:chExt cx="1632600" cy="622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2214720" y="5086800"/>
                  <a:ext cx="142848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CoolBand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113200" y="5086800"/>
                  <a:ext cx="163260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746520" y="5086800"/>
                <a:ext cx="5007960" cy="622080"/>
                <a:chOff x="3746520" y="5086800"/>
                <a:chExt cx="5007960" cy="622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848040" y="5086800"/>
                  <a:ext cx="4804560" cy="62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编辑波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746520" y="5086800"/>
                  <a:ext cx="5007960" cy="62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2" name=""/>
            <p:cNvSpPr/>
            <p:nvPr/>
          </p:nvSpPr>
          <p:spPr>
            <a:xfrm>
              <a:off x="380880" y="2590920"/>
              <a:ext cx="8381880" cy="3123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152280" y="990720"/>
            <a:ext cx="8762760" cy="5181120"/>
            <a:chOff x="152280" y="990720"/>
            <a:chExt cx="8762760" cy="5181120"/>
          </a:xfrm>
        </p:grpSpPr>
        <p:grpSp>
          <p:nvGrpSpPr>
            <p:cNvPr id="734" name=""/>
            <p:cNvGrpSpPr/>
            <p:nvPr/>
          </p:nvGrpSpPr>
          <p:grpSpPr>
            <a:xfrm>
              <a:off x="159480" y="996480"/>
              <a:ext cx="8746920" cy="5168160"/>
              <a:chOff x="159480" y="996480"/>
              <a:chExt cx="8746920" cy="516816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159480" y="996480"/>
                <a:ext cx="1803600" cy="746280"/>
                <a:chOff x="159480" y="996480"/>
                <a:chExt cx="1803600" cy="7462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266040" y="996480"/>
                  <a:ext cx="158976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itm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9480" y="996480"/>
                  <a:ext cx="18036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1963440" y="996480"/>
                <a:ext cx="1706760" cy="746280"/>
                <a:chOff x="1963440" y="996480"/>
                <a:chExt cx="1706760" cy="7462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2069640" y="996480"/>
                  <a:ext cx="149364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Bitm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963440" y="996480"/>
                  <a:ext cx="17067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670920" y="996480"/>
                <a:ext cx="5235480" cy="746280"/>
                <a:chOff x="3670920" y="996480"/>
                <a:chExt cx="5235480" cy="7462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777120" y="996480"/>
                  <a:ext cx="50227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指定一个位图，作为背景显示在工具栏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670920" y="996480"/>
                  <a:ext cx="523548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159480" y="1743120"/>
                <a:ext cx="1803600" cy="746280"/>
                <a:chOff x="159480" y="1743120"/>
                <a:chExt cx="1803600" cy="7462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66040" y="1743120"/>
                  <a:ext cx="158976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ixedOrd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9480" y="1743120"/>
                  <a:ext cx="18036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1963440" y="1743120"/>
                <a:ext cx="1706760" cy="746280"/>
                <a:chOff x="1963440" y="1743120"/>
                <a:chExt cx="1706760" cy="74628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2069640" y="1743120"/>
                  <a:ext cx="149364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963440" y="1743120"/>
                  <a:ext cx="17067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3670920" y="1743120"/>
                <a:ext cx="5235480" cy="746280"/>
                <a:chOff x="3670920" y="1743120"/>
                <a:chExt cx="5235480" cy="74628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3777120" y="1743120"/>
                  <a:ext cx="50227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当设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段可以进行拖曳，但段的顺序不变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670920" y="1743120"/>
                  <a:ext cx="523548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159480" y="2490120"/>
                <a:ext cx="1803600" cy="746640"/>
                <a:chOff x="159480" y="2490120"/>
                <a:chExt cx="1803600" cy="7466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266040" y="2490120"/>
                  <a:ext cx="1589760" cy="74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ixedSiz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59480" y="2490120"/>
                  <a:ext cx="1803600" cy="74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963440" y="2490120"/>
                <a:ext cx="1706760" cy="746640"/>
                <a:chOff x="1963440" y="2490120"/>
                <a:chExt cx="1706760" cy="746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2069640" y="2490120"/>
                  <a:ext cx="1493640" cy="74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963440" y="2490120"/>
                  <a:ext cx="1706760" cy="74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3670920" y="2490120"/>
                <a:ext cx="5235480" cy="746640"/>
                <a:chOff x="3670920" y="2490120"/>
                <a:chExt cx="5235480" cy="7466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3777120" y="2490120"/>
                  <a:ext cx="5022720" cy="74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尺寸设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670920" y="2490120"/>
                  <a:ext cx="5235480" cy="74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59480" y="3237480"/>
                <a:ext cx="1803600" cy="746280"/>
                <a:chOff x="159480" y="3237480"/>
                <a:chExt cx="1803600" cy="7462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266040" y="3237480"/>
                  <a:ext cx="158976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Imag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59480" y="3237480"/>
                  <a:ext cx="18036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1963440" y="3237480"/>
                <a:ext cx="1706760" cy="746280"/>
                <a:chOff x="1963440" y="3237480"/>
                <a:chExt cx="1706760" cy="74628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2069640" y="3237480"/>
                  <a:ext cx="149364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ImageLis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963440" y="3237480"/>
                  <a:ext cx="170676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3670920" y="3237480"/>
                <a:ext cx="5235480" cy="746280"/>
                <a:chOff x="3670920" y="3237480"/>
                <a:chExt cx="5235480" cy="7462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3777120" y="3237480"/>
                  <a:ext cx="502272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指定一个图像列表，显示在每个段的左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670920" y="3237480"/>
                  <a:ext cx="523548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59480" y="3984120"/>
                <a:ext cx="1803600" cy="1090080"/>
                <a:chOff x="159480" y="3984120"/>
                <a:chExt cx="1803600" cy="109008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66040" y="3984120"/>
                  <a:ext cx="158976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how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59480" y="3984120"/>
                  <a:ext cx="180360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963440" y="3984120"/>
                <a:ext cx="1706760" cy="1090080"/>
                <a:chOff x="1963440" y="3984120"/>
                <a:chExt cx="1706760" cy="10900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2069640" y="3984120"/>
                  <a:ext cx="149364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963440" y="3984120"/>
                  <a:ext cx="170676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3670920" y="3984120"/>
                <a:ext cx="5235480" cy="1090080"/>
                <a:chOff x="3670920" y="3984120"/>
                <a:chExt cx="5235480" cy="109008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777120" y="3984120"/>
                  <a:ext cx="502272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如果该特性设置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可以在运行期间把一个字符显示在段上，字符串由段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ext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特性指定。如果该特性设置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段只能显示窗口类控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70920" y="3984120"/>
                  <a:ext cx="523548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159480" y="5074920"/>
                <a:ext cx="1803600" cy="1089720"/>
                <a:chOff x="159480" y="5074920"/>
                <a:chExt cx="1803600" cy="108972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266040" y="5074920"/>
                  <a:ext cx="1589760" cy="108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Vertic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59480" y="5074920"/>
                  <a:ext cx="1803600" cy="108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1963440" y="5074920"/>
                <a:ext cx="1706760" cy="1089720"/>
                <a:chOff x="1963440" y="5074920"/>
                <a:chExt cx="1706760" cy="108972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2069640" y="5074920"/>
                  <a:ext cx="1493640" cy="108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oolea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963440" y="5074920"/>
                  <a:ext cx="1706760" cy="108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3670920" y="5074920"/>
                <a:ext cx="5235480" cy="1089720"/>
                <a:chOff x="3670920" y="5074920"/>
                <a:chExt cx="5235480" cy="10897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3777120" y="5074920"/>
                  <a:ext cx="5022720" cy="108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如果该特性设置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工具栏的段本身是垂直的，多个段从左到右排列。如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Vertica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为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als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工具栏的本身是水平的，多个段从上到下排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670920" y="5074920"/>
                  <a:ext cx="5235480" cy="108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9" name=""/>
            <p:cNvSpPr/>
            <p:nvPr/>
          </p:nvSpPr>
          <p:spPr>
            <a:xfrm>
              <a:off x="152280" y="990720"/>
              <a:ext cx="8762760" cy="51811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>
            <a:hlinkClick r:id="rId1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文本对象的设计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2764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2440" indent="-26244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" action="ppaction://hlinksldjump"/>
              </a:rPr>
              <a:t>3.5.1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标签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440" indent="-26244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3" action="ppaction://hlinksldjump"/>
              </a:rPr>
              <a:t>3.5.2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4" action="ppaction://hlinksldjump"/>
              </a:rPr>
              <a:t>静态文本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440" indent="-26244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5" action="ppaction://hlinksldjump"/>
              </a:rPr>
              <a:t>3.5.3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6" action="ppaction://hlinksldjump"/>
              </a:rPr>
              <a:t>编辑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440" indent="-26244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7" action="ppaction://hlinksldjump"/>
              </a:rPr>
              <a:t>3.5.4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8" action="ppaction://hlinksldjump"/>
              </a:rPr>
              <a:t>掩码编辑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2440" indent="-26244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9" action="ppaction://hlinksldjump"/>
              </a:rPr>
              <a:t>3.5.5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列表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8160" y="1854360"/>
            <a:ext cx="352728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1" action="ppaction://hlinksldjump"/>
              </a:rPr>
              <a:t>3.5.6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2" action="ppaction://hlinksldjump"/>
              </a:rPr>
              <a:t>组合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3" action="ppaction://hlinksldjump"/>
              </a:rPr>
              <a:t>3.5.7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4" action="ppaction://hlinksldjump"/>
              </a:rPr>
              <a:t>多行文本编辑器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5" action="ppaction://hlinksldjump"/>
              </a:rPr>
              <a:t>3.5.8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6" action="ppaction://hlinksldjump"/>
              </a:rPr>
              <a:t>复选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618ffd"/>
                </a:solidFill>
                <a:uFillTx/>
                <a:latin typeface="Arial Narrow"/>
                <a:ea typeface="宋体"/>
                <a:hlinkClick r:id="rId17" action="ppaction://hlinksldjump"/>
              </a:rPr>
              <a:t>3.5.9  </a:t>
            </a:r>
            <a:r>
              <a:rPr b="1" lang="zh-CN" sz="2400" spc="-1" strike="noStrike" u="sng">
                <a:solidFill>
                  <a:srgbClr val="618ffd"/>
                </a:solidFill>
                <a:uFillTx/>
                <a:latin typeface="Times New Roman"/>
                <a:ea typeface="宋体"/>
                <a:hlinkClick r:id="rId18" action="ppaction://hlinksldjump"/>
              </a:rPr>
              <a:t>常用文本处理过程和函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标签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232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宋体"/>
              </a:rPr>
              <a:t>标签的常见属性如下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ap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设置标签的标题，即标签的显示内容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cusContro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属性为标签控件独有，可以用来为一些无标题的控件提供快捷键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uto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决定标签是否随字体的变化而自动变动尺寸以配合这些变化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设置标签文字的字体格式和大小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文本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文本控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tic 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标签控件基本相同，唯一不同之处在于静态文本控件是窗口型控件，具有窗口句柄。因此，当控件的快捷键必须属于窗口型控件的时候，应该使用静态文本控件，而不能使用标签控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文本控件位于控件板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ition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项页上，操作方法与标签相同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0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697248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框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50840" y="1854000"/>
            <a:ext cx="702648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框的常用属性有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utoSel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utoSiz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orderStyl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ex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axLeng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PasswordCh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 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ReadOn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MEM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MEN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框控件的常用事件如下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KeyPre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件的功能：在编辑框输入完文本后，按一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，程序就开始执行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框的文本发生改变时触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Chang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框获得输入焦点时触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En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辑框失去输入焦点时触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Ex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件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4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掩码编辑框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窗体上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skEd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中，在对象监视器中找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ditMas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性，双击它，弹出一个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的对话框。掩码格式可以分为三部分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输入格式的第一部分是掩码本身，也就是数据输入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输入格式中的第二部分只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种选择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输入格式的第三部分用于表示数据中的空位用那个字符代替显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95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3－1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838840" cy="3838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5334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ord 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文版“插入”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92428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MsEdit01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9720" cy="296532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28954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掩码编辑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438280" y="1371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输入格式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838080" y="2168640"/>
            <a:ext cx="7391160" cy="3088800"/>
            <a:chOff x="838080" y="2168640"/>
            <a:chExt cx="7391160" cy="3088800"/>
          </a:xfrm>
        </p:grpSpPr>
        <p:grpSp>
          <p:nvGrpSpPr>
            <p:cNvPr id="812" name=""/>
            <p:cNvGrpSpPr/>
            <p:nvPr/>
          </p:nvGrpSpPr>
          <p:grpSpPr>
            <a:xfrm>
              <a:off x="844200" y="2174040"/>
              <a:ext cx="7377480" cy="3076560"/>
              <a:chOff x="844200" y="2174040"/>
              <a:chExt cx="7377480" cy="3076560"/>
            </a:xfrm>
          </p:grpSpPr>
          <p:grpSp>
            <p:nvGrpSpPr>
              <p:cNvPr id="813" name=""/>
              <p:cNvGrpSpPr/>
              <p:nvPr/>
            </p:nvGrpSpPr>
            <p:grpSpPr>
              <a:xfrm>
                <a:off x="844200" y="2174040"/>
                <a:ext cx="1146960" cy="726840"/>
                <a:chOff x="844200" y="2174040"/>
                <a:chExt cx="1146960" cy="72684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934920" y="2174040"/>
                  <a:ext cx="9655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格式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44200" y="2174040"/>
                  <a:ext cx="1146960" cy="72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1991520" y="2174040"/>
                <a:ext cx="6230160" cy="726840"/>
                <a:chOff x="1991520" y="2174040"/>
                <a:chExt cx="6230160" cy="7268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2082240" y="2174040"/>
                  <a:ext cx="60487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意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991520" y="2174040"/>
                  <a:ext cx="6230160" cy="72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844200" y="2901240"/>
                <a:ext cx="1146960" cy="894600"/>
                <a:chOff x="844200" y="2901240"/>
                <a:chExt cx="1146960" cy="8946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934920" y="2901240"/>
                  <a:ext cx="965520" cy="89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44200" y="2901240"/>
                  <a:ext cx="1146960" cy="89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1991520" y="2901240"/>
                <a:ext cx="6230160" cy="894600"/>
                <a:chOff x="1991520" y="2901240"/>
                <a:chExt cx="6230160" cy="89460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2082240" y="2901240"/>
                  <a:ext cx="6048720" cy="89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该位置只可能是一个字母，可以用光标键跳过它，但是不能是其他类型的字符。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该位置必须是一个字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991520" y="2901240"/>
                  <a:ext cx="6230160" cy="89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844200" y="3796200"/>
                <a:ext cx="1146960" cy="726840"/>
                <a:chOff x="844200" y="3796200"/>
                <a:chExt cx="1146960" cy="7268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934920" y="3796200"/>
                  <a:ext cx="9655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44200" y="3796200"/>
                  <a:ext cx="1146960" cy="72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1991520" y="3796200"/>
                <a:ext cx="6230160" cy="726840"/>
                <a:chOff x="1991520" y="3796200"/>
                <a:chExt cx="6230160" cy="7268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2082240" y="3796200"/>
                  <a:ext cx="60487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该位置只可能是一个字母或数字字符。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该位置必须是一个字母或数字字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991520" y="3796200"/>
                  <a:ext cx="6230160" cy="72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844200" y="4523760"/>
                <a:ext cx="1146960" cy="726840"/>
                <a:chOff x="844200" y="4523760"/>
                <a:chExt cx="1146960" cy="7268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934920" y="4523760"/>
                  <a:ext cx="9655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44200" y="4523760"/>
                  <a:ext cx="1146960" cy="72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1991520" y="4523760"/>
                <a:ext cx="6230160" cy="726840"/>
                <a:chOff x="1991520" y="4523760"/>
                <a:chExt cx="6230160" cy="7268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082240" y="4523760"/>
                  <a:ext cx="6048720" cy="72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该位置只可能是一个字母，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该位置必须有一个字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991520" y="4523760"/>
                  <a:ext cx="6230160" cy="72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7" name=""/>
            <p:cNvSpPr/>
            <p:nvPr/>
          </p:nvSpPr>
          <p:spPr>
            <a:xfrm>
              <a:off x="838080" y="2168640"/>
              <a:ext cx="7391160" cy="3088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380880" y="1295280"/>
            <a:ext cx="8415000" cy="5028840"/>
            <a:chOff x="380880" y="1295280"/>
            <a:chExt cx="8415000" cy="5028840"/>
          </a:xfrm>
        </p:grpSpPr>
        <p:grpSp>
          <p:nvGrpSpPr>
            <p:cNvPr id="839" name=""/>
            <p:cNvGrpSpPr/>
            <p:nvPr/>
          </p:nvGrpSpPr>
          <p:grpSpPr>
            <a:xfrm>
              <a:off x="387720" y="1301040"/>
              <a:ext cx="8399160" cy="5015880"/>
              <a:chOff x="387720" y="1301040"/>
              <a:chExt cx="8399160" cy="501588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387720" y="1301040"/>
                <a:ext cx="1305720" cy="749160"/>
                <a:chOff x="387720" y="1301040"/>
                <a:chExt cx="1305720" cy="74916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491040" y="1301040"/>
                  <a:ext cx="109908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9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87720" y="1301040"/>
                  <a:ext cx="130572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1693800" y="1301040"/>
                <a:ext cx="7093080" cy="749160"/>
                <a:chOff x="1693800" y="1301040"/>
                <a:chExt cx="7093080" cy="74916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1797120" y="1301040"/>
                  <a:ext cx="6886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9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该位置只可能是一个数字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该位置必须有一个数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693800" y="1301040"/>
                  <a:ext cx="709308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387720" y="2050560"/>
                <a:ext cx="1305720" cy="921960"/>
                <a:chOff x="387720" y="2050560"/>
                <a:chExt cx="1305720" cy="92196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491040" y="2050560"/>
                  <a:ext cx="1099080" cy="92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lt;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87720" y="2050560"/>
                  <a:ext cx="1305720" cy="92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1693800" y="2050560"/>
                <a:ext cx="7093080" cy="921960"/>
                <a:chOff x="1693800" y="2050560"/>
                <a:chExt cx="7093080" cy="92196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1797120" y="2050560"/>
                  <a:ext cx="6886440" cy="92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lt;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格式符表示随后的字母均以小写的形式显示，直到遇到一个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gt;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格式字符或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lt;&gt;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格式符。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gt;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格式符则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&lt;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正好相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693800" y="2050560"/>
                  <a:ext cx="7093080" cy="92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387720" y="2973240"/>
                <a:ext cx="1305720" cy="921600"/>
                <a:chOff x="387720" y="2973240"/>
                <a:chExt cx="1305720" cy="9216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491040" y="2973240"/>
                  <a:ext cx="1099080" cy="92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\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87720" y="2973240"/>
                  <a:ext cx="1305720" cy="92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1693800" y="2973240"/>
                <a:ext cx="7093080" cy="921600"/>
                <a:chOff x="1693800" y="2973240"/>
                <a:chExt cx="7093080" cy="92160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1797120" y="2973240"/>
                  <a:ext cx="6886440" cy="92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该格式符之后的那个掩码格式符将作为数据中的普通字符对待。当用户想在数据中放进一个掩码格式符时，应该在这个格式符前放一个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\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符号。如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\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\\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等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693800" y="2973240"/>
                  <a:ext cx="7093080" cy="92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387720" y="3895560"/>
                <a:ext cx="1305720" cy="749160"/>
                <a:chOff x="387720" y="3895560"/>
                <a:chExt cx="1305720" cy="74916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491040" y="3895560"/>
                  <a:ext cx="109908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#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87720" y="3895560"/>
                  <a:ext cx="130572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1693800" y="3895560"/>
                <a:ext cx="7093080" cy="749160"/>
                <a:chOff x="1693800" y="3895560"/>
                <a:chExt cx="7093080" cy="74916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797120" y="3895560"/>
                  <a:ext cx="6886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该位置可能是一个数字或正符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693800" y="3895560"/>
                  <a:ext cx="709308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387720" y="4645440"/>
                <a:ext cx="1305720" cy="921960"/>
                <a:chOff x="387720" y="4645440"/>
                <a:chExt cx="1305720" cy="92196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491040" y="4645440"/>
                  <a:ext cx="1099080" cy="92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!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87720" y="4645440"/>
                  <a:ext cx="1305720" cy="92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1693800" y="4645440"/>
                <a:ext cx="7093080" cy="921960"/>
                <a:chOff x="1693800" y="4645440"/>
                <a:chExt cx="7093080" cy="92196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1797120" y="4645440"/>
                  <a:ext cx="6886440" cy="92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如有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!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数据前的空格将不被保存在数据中，没有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!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则数据后的空格不被保存。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!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格式符只能放在掩码格式符的第一个字符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693800" y="4645440"/>
                  <a:ext cx="7093080" cy="92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387720" y="5567760"/>
                <a:ext cx="1305720" cy="749160"/>
                <a:chOff x="387720" y="5567760"/>
                <a:chExt cx="1305720" cy="7491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491040" y="5567760"/>
                  <a:ext cx="109908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;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/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87720" y="5567760"/>
                  <a:ext cx="130572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1693800" y="5567760"/>
                <a:ext cx="7093080" cy="749160"/>
                <a:chOff x="1693800" y="5567760"/>
                <a:chExt cx="7093080" cy="74916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797120" y="5567760"/>
                  <a:ext cx="6886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标准的分隔符，可作为数据的一部分。其中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/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在显示时为‘－’而非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/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693800" y="5567760"/>
                  <a:ext cx="709308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6" name=""/>
            <p:cNvSpPr/>
            <p:nvPr/>
          </p:nvSpPr>
          <p:spPr>
            <a:xfrm>
              <a:off x="380880" y="1295280"/>
              <a:ext cx="8415000" cy="5028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2438280" y="6094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输入格式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.5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列表框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表框控件的一些常用属性有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ExtendedSel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  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temInde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ultiSel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elCou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el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  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or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1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.6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组合框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179800" y="2071800"/>
            <a:ext cx="55022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合框的常用属性有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   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el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 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elSt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 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elLeng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y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后的效果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2286000" y="53341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7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表框使用实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2892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图3－34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1385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914400" y="1143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单击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i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的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ppl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开始一个新的应用程序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窗体属性（如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完后往窗体中添加控件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对象编辑器中设置各个控件的属性值（如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各个控件添加事件（如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15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添加完事件后，为各个事件编写事件代码（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124080" y="1371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3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窗体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1752480" y="2057400"/>
            <a:ext cx="5943240" cy="3733560"/>
            <a:chOff x="1752480" y="2057400"/>
            <a:chExt cx="5943240" cy="3733560"/>
          </a:xfrm>
        </p:grpSpPr>
        <p:grpSp>
          <p:nvGrpSpPr>
            <p:cNvPr id="890" name=""/>
            <p:cNvGrpSpPr/>
            <p:nvPr/>
          </p:nvGrpSpPr>
          <p:grpSpPr>
            <a:xfrm>
              <a:off x="1759320" y="2063160"/>
              <a:ext cx="5928480" cy="3721320"/>
              <a:chOff x="1759320" y="2063160"/>
              <a:chExt cx="5928480" cy="3721320"/>
            </a:xfrm>
          </p:grpSpPr>
          <p:grpSp>
            <p:nvGrpSpPr>
              <p:cNvPr id="891" name=""/>
              <p:cNvGrpSpPr/>
              <p:nvPr/>
            </p:nvGrpSpPr>
            <p:grpSpPr>
              <a:xfrm>
                <a:off x="1759320" y="2063160"/>
                <a:ext cx="2710440" cy="743760"/>
                <a:chOff x="1759320" y="2063160"/>
                <a:chExt cx="2710440" cy="74376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1860480" y="2063160"/>
                  <a:ext cx="250812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759320" y="2063160"/>
                  <a:ext cx="27104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4470120" y="2063160"/>
                <a:ext cx="3217680" cy="743760"/>
                <a:chOff x="4470120" y="2063160"/>
                <a:chExt cx="3217680" cy="74376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4570560" y="2063160"/>
                  <a:ext cx="30164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值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470120" y="2063160"/>
                  <a:ext cx="321768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1759320" y="2807280"/>
                <a:ext cx="2710440" cy="743760"/>
                <a:chOff x="1759320" y="2807280"/>
                <a:chExt cx="2710440" cy="74376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1860480" y="2807280"/>
                  <a:ext cx="250812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p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759320" y="2807280"/>
                  <a:ext cx="27104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4470120" y="2807280"/>
                <a:ext cx="3217680" cy="743760"/>
                <a:chOff x="4470120" y="2807280"/>
                <a:chExt cx="3217680" cy="74376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4570560" y="2807280"/>
                  <a:ext cx="30164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列表框的使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470120" y="2807280"/>
                  <a:ext cx="321768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1759320" y="3551400"/>
                <a:ext cx="2710440" cy="744120"/>
                <a:chOff x="1759320" y="3551400"/>
                <a:chExt cx="2710440" cy="74412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1860480" y="3551400"/>
                  <a:ext cx="2508120" cy="7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on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759320" y="3551400"/>
                  <a:ext cx="2710440" cy="7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4470120" y="3551400"/>
                <a:ext cx="3217680" cy="744120"/>
                <a:chOff x="4470120" y="3551400"/>
                <a:chExt cx="3217680" cy="74412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4570560" y="3551400"/>
                  <a:ext cx="3016440" cy="7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宋体、五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470120" y="3551400"/>
                  <a:ext cx="3217680" cy="7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1759320" y="4296240"/>
                <a:ext cx="2710440" cy="743760"/>
                <a:chOff x="1759320" y="4296240"/>
                <a:chExt cx="2710440" cy="74376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1860480" y="4296240"/>
                  <a:ext cx="250812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eigh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759320" y="4296240"/>
                  <a:ext cx="27104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4470120" y="4296240"/>
                <a:ext cx="3217680" cy="743760"/>
                <a:chOff x="4470120" y="4296240"/>
                <a:chExt cx="3217680" cy="74376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570560" y="4296240"/>
                  <a:ext cx="30164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3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470120" y="4296240"/>
                  <a:ext cx="321768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1759320" y="5040720"/>
                <a:ext cx="2710440" cy="743760"/>
                <a:chOff x="1759320" y="5040720"/>
                <a:chExt cx="2710440" cy="74376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1860480" y="5040720"/>
                  <a:ext cx="250812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Wid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759320" y="5040720"/>
                  <a:ext cx="271044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4470120" y="5040720"/>
                <a:ext cx="3217680" cy="743760"/>
                <a:chOff x="4470120" y="5040720"/>
                <a:chExt cx="3217680" cy="74376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4570560" y="5040720"/>
                  <a:ext cx="3016440" cy="74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470120" y="5040720"/>
                  <a:ext cx="3217680" cy="74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1" name=""/>
            <p:cNvSpPr/>
            <p:nvPr/>
          </p:nvSpPr>
          <p:spPr>
            <a:xfrm>
              <a:off x="1752480" y="2057400"/>
              <a:ext cx="594324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14600" y="762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属性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838080" y="1447920"/>
          <a:ext cx="7391520" cy="51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39152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124080" y="1066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5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各控件的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219320" y="1981080"/>
            <a:ext cx="6679800" cy="3733560"/>
            <a:chOff x="1219320" y="1981080"/>
            <a:chExt cx="6679800" cy="3733560"/>
          </a:xfrm>
        </p:grpSpPr>
        <p:grpSp>
          <p:nvGrpSpPr>
            <p:cNvPr id="927" name=""/>
            <p:cNvGrpSpPr/>
            <p:nvPr/>
          </p:nvGrpSpPr>
          <p:grpSpPr>
            <a:xfrm>
              <a:off x="1225080" y="1990080"/>
              <a:ext cx="6666840" cy="3713760"/>
              <a:chOff x="1225080" y="1990080"/>
              <a:chExt cx="6666840" cy="371376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1225080" y="1990080"/>
                <a:ext cx="2020320" cy="1178640"/>
                <a:chOff x="1225080" y="1990080"/>
                <a:chExt cx="2020320" cy="117864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1311480" y="1990080"/>
                  <a:ext cx="1847520" cy="117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控件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225080" y="1990080"/>
                  <a:ext cx="2020320" cy="117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3245760" y="1990080"/>
                <a:ext cx="2443320" cy="1178640"/>
                <a:chOff x="3245760" y="1990080"/>
                <a:chExt cx="2443320" cy="117864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3331440" y="1990080"/>
                  <a:ext cx="2270880" cy="117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事件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245760" y="1990080"/>
                  <a:ext cx="2443320" cy="117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5689440" y="1990080"/>
                <a:ext cx="2202480" cy="1178640"/>
                <a:chOff x="5689440" y="1990080"/>
                <a:chExt cx="2202480" cy="117864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5775120" y="1990080"/>
                  <a:ext cx="2030040" cy="117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响应过程名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689440" y="1990080"/>
                  <a:ext cx="2202480" cy="117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1225080" y="3169080"/>
                <a:ext cx="2020320" cy="2534760"/>
                <a:chOff x="1225080" y="3169080"/>
                <a:chExt cx="2020320" cy="253476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1311480" y="3169080"/>
                  <a:ext cx="1847520" cy="253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istBox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omboBox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225080" y="3169080"/>
                  <a:ext cx="2020320" cy="253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3245760" y="3169080"/>
                <a:ext cx="2443320" cy="2534760"/>
                <a:chOff x="3245760" y="3169080"/>
                <a:chExt cx="2443320" cy="253476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3331440" y="3169080"/>
                  <a:ext cx="2270880" cy="253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nCli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nCh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nCli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nCli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nCli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nCli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245760" y="3169080"/>
                  <a:ext cx="2443320" cy="253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5689440" y="3169080"/>
                <a:ext cx="2202480" cy="2534760"/>
                <a:chOff x="5689440" y="3169080"/>
                <a:chExt cx="2202480" cy="253476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5775120" y="3169080"/>
                  <a:ext cx="2030040" cy="253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hangeTex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hangeTex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1Cli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2Cli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3Cli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utton4Clic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689440" y="3169080"/>
                  <a:ext cx="2202480" cy="253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6" name=""/>
            <p:cNvSpPr/>
            <p:nvPr/>
          </p:nvSpPr>
          <p:spPr>
            <a:xfrm>
              <a:off x="1219320" y="1981080"/>
              <a:ext cx="6679800" cy="3733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1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主菜单设计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ainMen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的设计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鼠标右键单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ainMen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图标，打开一个弹出式菜单，从中选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enuDesign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在窗体中单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ainMen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图标，然后在对象监视器中单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tem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性编辑框右边的省略号按钮。打开后的主菜单设计器窗口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标双击窗体中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ainMen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图标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.7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多行文本编辑器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037960" y="1999800"/>
            <a:ext cx="521964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Mem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件常用的方法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使用剪贴板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文本的添加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文件的保存和装载（程序的界面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。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2590920" y="1219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1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m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控件常用属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804960" y="1905120"/>
            <a:ext cx="7467120" cy="3733200"/>
            <a:chOff x="804960" y="1905120"/>
            <a:chExt cx="7467120" cy="3733200"/>
          </a:xfrm>
        </p:grpSpPr>
        <p:grpSp>
          <p:nvGrpSpPr>
            <p:cNvPr id="952" name=""/>
            <p:cNvGrpSpPr/>
            <p:nvPr/>
          </p:nvGrpSpPr>
          <p:grpSpPr>
            <a:xfrm>
              <a:off x="811080" y="1913400"/>
              <a:ext cx="7454160" cy="3715560"/>
              <a:chOff x="811080" y="1913400"/>
              <a:chExt cx="7454160" cy="371556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811080" y="1913400"/>
                <a:ext cx="1065600" cy="1073520"/>
                <a:chOff x="811080" y="1913400"/>
                <a:chExt cx="1065600" cy="107352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901800" y="1913400"/>
                  <a:ext cx="884520" cy="10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11080" y="1913400"/>
                  <a:ext cx="1065600" cy="107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1877040" y="1913400"/>
                <a:ext cx="6388200" cy="1073520"/>
                <a:chOff x="1877040" y="1913400"/>
                <a:chExt cx="6388200" cy="107352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1967760" y="1913400"/>
                  <a:ext cx="6206760" cy="10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77040" y="1913400"/>
                  <a:ext cx="6388200" cy="107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811080" y="2987280"/>
                <a:ext cx="1065600" cy="1073520"/>
                <a:chOff x="811080" y="2987280"/>
                <a:chExt cx="1065600" cy="107352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901800" y="2987280"/>
                  <a:ext cx="884520" cy="10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i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11080" y="2987280"/>
                  <a:ext cx="1065600" cy="107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1877040" y="2987280"/>
                <a:ext cx="6388200" cy="1073520"/>
                <a:chOff x="1877040" y="2987280"/>
                <a:chExt cx="6388200" cy="107352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1967760" y="2987280"/>
                  <a:ext cx="6206760" cy="10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这是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emo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控件最常用也是最有用的属性，它用来显示和保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emo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控件中的内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877040" y="2987280"/>
                  <a:ext cx="6388200" cy="107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811080" y="4061160"/>
                <a:ext cx="1065600" cy="1567800"/>
                <a:chOff x="811080" y="4061160"/>
                <a:chExt cx="1065600" cy="156780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901800" y="4061160"/>
                  <a:ext cx="884520" cy="15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crollb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811080" y="4061160"/>
                  <a:ext cx="1065600" cy="15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877040" y="4061160"/>
                <a:ext cx="6388200" cy="1567800"/>
                <a:chOff x="1877040" y="4061160"/>
                <a:chExt cx="6388200" cy="156780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1967760" y="4061160"/>
                  <a:ext cx="6206760" cy="15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很多控件都有这个属性。用于设定控件有否滚动条。它有四个值：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SNon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既无水平滚动条，也无垂直滚动条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SHorizonta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只有水平滚动条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SVerta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只有垂直滚动条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SBoth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表示两者都有。当用户要显示的文本或其他的内容较多时，建议选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SSBo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877040" y="4061160"/>
                  <a:ext cx="6388200" cy="15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1" name=""/>
            <p:cNvSpPr/>
            <p:nvPr/>
          </p:nvSpPr>
          <p:spPr>
            <a:xfrm>
              <a:off x="804960" y="1905120"/>
              <a:ext cx="7467120" cy="3733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914400" y="1371600"/>
            <a:ext cx="7314840" cy="4342680"/>
            <a:chOff x="914400" y="1371600"/>
            <a:chExt cx="7314840" cy="4342680"/>
          </a:xfrm>
        </p:grpSpPr>
        <p:grpSp>
          <p:nvGrpSpPr>
            <p:cNvPr id="973" name=""/>
            <p:cNvGrpSpPr/>
            <p:nvPr/>
          </p:nvGrpSpPr>
          <p:grpSpPr>
            <a:xfrm>
              <a:off x="920160" y="1383120"/>
              <a:ext cx="7301880" cy="4316760"/>
              <a:chOff x="920160" y="1383120"/>
              <a:chExt cx="7301880" cy="431676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920160" y="1383120"/>
                <a:ext cx="1043640" cy="1817640"/>
                <a:chOff x="920160" y="1383120"/>
                <a:chExt cx="1043640" cy="18176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1008720" y="1383120"/>
                  <a:ext cx="866520" cy="18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WordWr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920160" y="1383120"/>
                  <a:ext cx="1043640" cy="18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1964160" y="1383120"/>
                <a:ext cx="6257880" cy="1817640"/>
                <a:chOff x="1964160" y="1383120"/>
                <a:chExt cx="6257880" cy="181764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2053080" y="1383120"/>
                  <a:ext cx="6080040" cy="18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用于设定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omo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控件是否具有自动折行功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964160" y="1383120"/>
                  <a:ext cx="6257880" cy="18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920160" y="3201480"/>
                <a:ext cx="1043640" cy="2498400"/>
                <a:chOff x="920160" y="3201480"/>
                <a:chExt cx="1043640" cy="249840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1008720" y="3201480"/>
                  <a:ext cx="866520" cy="24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WantTab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920160" y="3201480"/>
                  <a:ext cx="1043640" cy="249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1964160" y="3201480"/>
                <a:ext cx="6257880" cy="2498400"/>
                <a:chOff x="1964160" y="3201480"/>
                <a:chExt cx="6257880" cy="249840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2053080" y="3201480"/>
                  <a:ext cx="6080040" cy="24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这个属性只在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Memo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、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ichEdit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和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BMemo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控件中使用。通常在切换当前焦点控件时，我们通常使用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ab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键。但在上述三种控件中，编辑文本时常用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ab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键来跳过若干个空格使文本对齐，这时就会有冲突。所以应将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WantTabs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设置为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rue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这样子在控件内就可以使用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ab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键来编辑文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964160" y="3201480"/>
                  <a:ext cx="6257880" cy="249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6" name=""/>
            <p:cNvSpPr/>
            <p:nvPr/>
          </p:nvSpPr>
          <p:spPr>
            <a:xfrm>
              <a:off x="914400" y="1371600"/>
              <a:ext cx="7314840" cy="4342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31003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图3－38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43680" cy="375588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286000" y="5334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的文本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.8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复选框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2" name=""/>
          <p:cNvSpPr/>
          <p:nvPr/>
        </p:nvSpPr>
        <p:spPr>
          <a:xfrm>
            <a:off x="298116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3" name="图3－35" descr=""/>
          <p:cNvPicPr/>
          <p:nvPr/>
        </p:nvPicPr>
        <p:blipFill>
          <a:blip r:embed="rId1"/>
          <a:srcRect l="0" t="2473" r="1904" b="0"/>
          <a:stretch/>
        </p:blipFill>
        <p:spPr>
          <a:xfrm>
            <a:off x="1219320" y="2133720"/>
            <a:ext cx="6619680" cy="168408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1600200" y="4648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3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选框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选框的几个重要属性：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gn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类型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LeftR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控制复选框标题的位置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llowgray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类型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确定复选框是否可以处于灰色显示状态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类型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确定复选框是否被选中，缺省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类型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CheckBox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6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5.9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文本处理过程和函数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755720" y="2362320"/>
            <a:ext cx="6137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编辑框的常用处理过程与函数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列表框的常用处理过程与函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组合框的常用处理过程与函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9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6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有关窗体的操作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6480" indent="-27648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6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向项目中加入新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-27648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6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多个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单元间切换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-27648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6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一个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调用另一个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-27648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6.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不同项目间共享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-27648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6.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SCI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式储存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-27648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6.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和向导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-276480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6.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窗体上对控件进行编辑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2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6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向项目中加入新的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1946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依次单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ols”→“Repository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打开对话框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g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栏内选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bje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栏中将显示所有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，从中选择一个，本例选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out bo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型窗体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确定该模板为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单击下面的复选按钮来完成。本例全部选中，然后单击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K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即可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2814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图3－10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394812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2057400" y="5486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0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bject Repository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524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菜单设计器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3－2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32944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4909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图3－11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195880" cy="377640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1676520" y="5410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1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out box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6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多个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或单元间切换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33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依次单击菜单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打开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ew 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，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从列表框中选择一个窗体后，单击”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。在多个单元间切换同窗体一样。通过依次单击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Un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打开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ew Un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，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或单击工具栏上的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Un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亦可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34099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5" name="图3－12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734080" cy="296064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160020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ew For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34527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图3－1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234040" cy="338616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905120" y="5105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ew Un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6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一个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中调用另一个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50480" y="1854000"/>
            <a:ext cx="719460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项目中添加了一个新的窗体时，系统会自动将窗体的单元名加入到项目文件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中。通常是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放到各自单元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mplementat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分或者把一个单元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放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fa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分，另一个单元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句放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mplementat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分。通常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型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3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6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不同项目间共享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For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要与其他项目共享一个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方法，其一为，把它加入到对象库中；其二为，把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译成动态链接库。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3147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图3－14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876920" cy="337644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1752480" y="5410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r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30621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图3－15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325440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1905120" y="541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入到对象库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6.5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ASCII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格式储存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194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鼠标右键在窗体上单击，打开弹出式菜单，并从中选择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ew As 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，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要保存，单击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i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的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ave 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即可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771280" y="5181480"/>
            <a:ext cx="3580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-4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窗体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F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1766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图3－16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5052960" cy="36576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菜单设计方法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菜单项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-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编辑菜单项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插入菜单项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-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删除菜单项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分隔条（如图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-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定义加速键和快捷键（如图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-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-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调整菜单位置（见图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-8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创建子菜单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菜单模板（如图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3-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6.6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和向导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050480" y="1854000"/>
            <a:ext cx="7194600" cy="28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使用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i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的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打开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w I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，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4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从中指定一个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，窗体中包含有对话框、数据列表框、主从式报表等。最后单击”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钮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2004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图3－17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800600" cy="358452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220968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7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w Iterm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6.7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在窗体上对控件进行编辑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添加控件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重复添加同一个控件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or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选择控件的几种方法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移动、删除控件以及调整控件大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1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排列控件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336240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图3－18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019840" cy="33400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66688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8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ignm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7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有关代码编辑器的使用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614240" y="1999800"/>
            <a:ext cx="599580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7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代码编辑器窗口的打开和切换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5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7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代码编辑器的功能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3" name="">
            <a:hlinkClick r:id="" action="ppaction://hlinkshowjump?jump=firstslide"/>
          </p:cNvPr>
          <p:cNvSpPr/>
          <p:nvPr/>
        </p:nvSpPr>
        <p:spPr>
          <a:xfrm>
            <a:off x="6934320" y="6382800"/>
            <a:ext cx="1730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7.1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代码编辑器窗口的打开和切换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50480" y="1854000"/>
            <a:ext cx="719460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代码编辑器是一个典型的多页窗口，可以通过用鼠标单击页头的方式，在各个页间切换。每一页显示一个已打开的单元。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但是若想要编辑一个还没有打开的单元，则要使用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菜单下的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U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或单击工具栏上的按钮打开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ew Un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，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1050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7" name="图3－4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124240" cy="35431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2057400" y="5334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4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代码编辑器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341460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图3－5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272200" cy="342756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82880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ew Un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238880" y="6373440"/>
            <a:ext cx="1451160" cy="398880"/>
          </a:xfrm>
          <a:prstGeom prst="rect">
            <a:avLst/>
          </a:prstGeom>
          <a:noFill/>
          <a:ln w="22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9ea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3.7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代码编辑器的功能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语句模板功能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代码完成功能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5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参数提示功能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-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）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31622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图3－6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5449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1676520" y="5334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-5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语句模板列表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8:15Z</dcterms:created>
  <dc:creator>H. James Toland III</dc:creator>
  <dc:description/>
  <dc:language>en-US</dc:language>
  <cp:lastModifiedBy>lcb</cp:lastModifiedBy>
  <dcterms:modified xsi:type="dcterms:W3CDTF">2002-03-30T08:18:24Z</dcterms:modified>
  <cp:revision>73</cp:revision>
  <dc:subject/>
  <dc:title>Introduction</dc:title>
</cp:coreProperties>
</file>